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2.png" ContentType="image/png"/>
  <Override PartName="/ppt/media/image20.jpeg" ContentType="image/jpeg"/>
  <Override PartName="/ppt/media/image11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1.png" ContentType="image/pn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63.jpeg" ContentType="image/jpeg"/>
  <Override PartName="/ppt/media/image64.jpeg" ContentType="image/jpeg"/>
  <Override PartName="/ppt/media/image67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100.png" ContentType="image/png"/>
  <Override PartName="/ppt/media/image65.jpeg" ContentType="image/jpeg"/>
  <Override PartName="/ppt/media/image109.gif" ContentType="image/gif"/>
  <Override PartName="/ppt/media/image92.jpeg" ContentType="image/jpeg"/>
  <Override PartName="/ppt/media/image90.jpeg" ContentType="image/jpeg"/>
  <Override PartName="/ppt/media/image110.jpeg" ContentType="image/jpeg"/>
  <Override PartName="/ppt/media/image93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12.png" ContentType="image/png"/>
  <Override PartName="/ppt/media/image68.jpeg" ContentType="image/jpeg"/>
  <Override PartName="/ppt/media/image113.jpeg" ContentType="image/jpeg"/>
  <Override PartName="/ppt/media/image96.jpeg" ContentType="image/jpeg"/>
  <Override PartName="/ppt/media/image70.jpeg" ContentType="image/jpeg"/>
  <Override PartName="/ppt/media/image99.jpeg" ContentType="image/jpeg"/>
  <Override PartName="/ppt/media/image98.png" ContentType="image/png"/>
  <Override PartName="/ppt/media/image94.jpeg" ContentType="image/jpeg"/>
  <Override PartName="/ppt/media/image91.jpeg" ContentType="image/jpeg"/>
  <Override PartName="/ppt/media/image111.jpeg" ContentType="image/jpeg"/>
  <Override PartName="/ppt/media/image95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54.png" ContentType="image/png"/>
  <Override PartName="/ppt/media/image76.jpeg" ContentType="image/jpeg"/>
  <Override PartName="/ppt/media/image22.jpeg" ContentType="image/jpeg"/>
  <Override PartName="/ppt/media/image118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01F-A10A-44FF-A7AA-A39138E0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9C0-4571-4498-8304-F2E153B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189-13BD-474B-8B87-20C5DD73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196-1CC6-4C78-8830-DCB73595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814-46F0-49D3-9376-BEB9D968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8DD-31BA-4D73-AFDA-62C35FC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C41-A67E-48D6-B833-D34DA526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EB3-6E6C-4EA4-9C13-58AFC5A4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ABB-AA25-4BC1-B926-BC92A04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C9C-31F8-424D-B39B-7766346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7F0-940B-4021-B926-66CD7E6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A47-3A6D-429A-ACAE-96E1193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98E6-7AE3-4B14-B158-F317F7156F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pn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image" Target="../media/image69.jpeg"/><Relationship Id="rId12" Type="http://schemas.openxmlformats.org/officeDocument/2006/relationships/image" Target="../media/image70.jpeg"/><Relationship Id="rId13" Type="http://schemas.openxmlformats.org/officeDocument/2006/relationships/image" Target="../media/image71.jpeg"/><Relationship Id="rId14" Type="http://schemas.openxmlformats.org/officeDocument/2006/relationships/image" Target="../media/image72.jpeg"/><Relationship Id="rId15" Type="http://schemas.openxmlformats.org/officeDocument/2006/relationships/image" Target="../media/image73.jpeg"/><Relationship Id="rId16" Type="http://schemas.openxmlformats.org/officeDocument/2006/relationships/image" Target="../media/image74.jpeg"/><Relationship Id="rId17" Type="http://schemas.openxmlformats.org/officeDocument/2006/relationships/image" Target="../media/image75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jpeg"/><Relationship Id="rId7" Type="http://schemas.openxmlformats.org/officeDocument/2006/relationships/image" Target="../media/image81.jpeg"/><Relationship Id="rId8" Type="http://schemas.openxmlformats.org/officeDocument/2006/relationships/image" Target="../media/image82.jpeg"/><Relationship Id="rId9" Type="http://schemas.openxmlformats.org/officeDocument/2006/relationships/image" Target="../media/image83.jpeg"/><Relationship Id="rId10" Type="http://schemas.openxmlformats.org/officeDocument/2006/relationships/image" Target="../media/image84.jpeg"/><Relationship Id="rId11" Type="http://schemas.openxmlformats.org/officeDocument/2006/relationships/image" Target="../media/image85.jpeg"/><Relationship Id="rId12" Type="http://schemas.openxmlformats.org/officeDocument/2006/relationships/image" Target="../media/image86.jpeg"/><Relationship Id="rId13" Type="http://schemas.openxmlformats.org/officeDocument/2006/relationships/image" Target="../media/image87.jpeg"/><Relationship Id="rId14" Type="http://schemas.openxmlformats.org/officeDocument/2006/relationships/image" Target="../media/image88.jpeg"/><Relationship Id="rId15" Type="http://schemas.openxmlformats.org/officeDocument/2006/relationships/image" Target="../media/image89.jpeg"/><Relationship Id="rId16" Type="http://schemas.openxmlformats.org/officeDocument/2006/relationships/image" Target="../media/image90.jpeg"/><Relationship Id="rId17" Type="http://schemas.openxmlformats.org/officeDocument/2006/relationships/image" Target="../media/image91.jpe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jpeg"/><Relationship Id="rId3" Type="http://schemas.openxmlformats.org/officeDocument/2006/relationships/image" Target="../media/image98.png"/><Relationship Id="rId4" Type="http://schemas.openxmlformats.org/officeDocument/2006/relationships/image" Target="../media/image99.jpe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jpeg"/><Relationship Id="rId8" Type="http://schemas.openxmlformats.org/officeDocument/2006/relationships/image" Target="../media/image103.jpeg"/><Relationship Id="rId9" Type="http://schemas.openxmlformats.org/officeDocument/2006/relationships/image" Target="../media/image104.jpeg"/><Relationship Id="rId10" Type="http://schemas.openxmlformats.org/officeDocument/2006/relationships/image" Target="../media/image105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image" Target="../media/image111.jpe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2421000"/>
            <a:ext cx="71625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енные страницы архива семь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15" descr="images"/>
          <p:cNvPicPr/>
          <p:nvPr/>
        </p:nvPicPr>
        <p:blipFill>
          <a:blip r:embed="rId2"/>
          <a:stretch/>
        </p:blipFill>
        <p:spPr>
          <a:xfrm rot="20513400">
            <a:off x="6732720" y="4436640"/>
            <a:ext cx="2144520" cy="154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Цветные фотографии Великой Отечественной Войны"/>
          <p:cNvPicPr/>
          <p:nvPr/>
        </p:nvPicPr>
        <p:blipFill>
          <a:blip r:embed="rId3"/>
          <a:stretch/>
        </p:blipFill>
        <p:spPr>
          <a:xfrm rot="20502600">
            <a:off x="5473800" y="325440"/>
            <a:ext cx="1461960" cy="201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Цветные фотографии Великой Отечественной Войны"/>
          <p:cNvPicPr/>
          <p:nvPr/>
        </p:nvPicPr>
        <p:blipFill>
          <a:blip r:embed="rId4"/>
          <a:stretch/>
        </p:blipFill>
        <p:spPr>
          <a:xfrm rot="584400">
            <a:off x="2123640" y="4437000"/>
            <a:ext cx="1674720" cy="180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24481948_0000029696original"/>
          <p:cNvPicPr/>
          <p:nvPr/>
        </p:nvPicPr>
        <p:blipFill>
          <a:blip r:embed="rId5"/>
          <a:stretch/>
        </p:blipFill>
        <p:spPr>
          <a:xfrm rot="20405400">
            <a:off x="395280" y="4508280"/>
            <a:ext cx="230364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Чеченская война. Коллаж CNN"/>
          <p:cNvPicPr/>
          <p:nvPr/>
        </p:nvPicPr>
        <p:blipFill>
          <a:blip r:embed="rId6"/>
          <a:stretch/>
        </p:blipFill>
        <p:spPr>
          <a:xfrm rot="1484400">
            <a:off x="1618920" y="475920"/>
            <a:ext cx="1839960" cy="1839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2-07"/>
          <p:cNvPicPr/>
          <p:nvPr/>
        </p:nvPicPr>
        <p:blipFill>
          <a:blip r:embed="rId7"/>
          <a:stretch/>
        </p:blipFill>
        <p:spPr>
          <a:xfrm>
            <a:off x="3203640" y="260280"/>
            <a:ext cx="2374920" cy="2054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b7543b99c10420b105efe853af3fe2f3"/>
          <p:cNvPicPr/>
          <p:nvPr/>
        </p:nvPicPr>
        <p:blipFill>
          <a:blip r:embed="rId8"/>
          <a:stretch/>
        </p:blipFill>
        <p:spPr>
          <a:xfrm rot="20998200">
            <a:off x="257040" y="192240"/>
            <a:ext cx="1373400" cy="206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1244246240_1244218879_4871797985ca"/>
          <p:cNvPicPr/>
          <p:nvPr/>
        </p:nvPicPr>
        <p:blipFill>
          <a:blip r:embed="rId9"/>
          <a:stretch/>
        </p:blipFill>
        <p:spPr>
          <a:xfrm rot="825600">
            <a:off x="6732360" y="333360"/>
            <a:ext cx="2070000" cy="209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Великая Отечественная Война"/>
          <p:cNvPicPr/>
          <p:nvPr/>
        </p:nvPicPr>
        <p:blipFill>
          <a:blip r:embed="rId10"/>
          <a:stretch/>
        </p:blipFill>
        <p:spPr>
          <a:xfrm rot="20551800">
            <a:off x="3203640" y="4581360"/>
            <a:ext cx="2705040" cy="165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сканирование0002"/>
          <p:cNvPicPr/>
          <p:nvPr/>
        </p:nvPicPr>
        <p:blipFill>
          <a:blip r:embed="rId11"/>
          <a:stretch/>
        </p:blipFill>
        <p:spPr>
          <a:xfrm rot="375000">
            <a:off x="4932360" y="4365360"/>
            <a:ext cx="2303640" cy="1778040"/>
          </a:xfrm>
          <a:prstGeom prst="rect">
            <a:avLst/>
          </a:prstGeom>
          <a:ln w="0">
            <a:noFill/>
          </a:ln>
        </p:spPr>
      </p:pic>
      <p:pic>
        <p:nvPicPr>
          <p:cNvPr id="52" name="08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ru-RU" sz="12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II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период (с 19 ноября 1942 года до конца 1943 года)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Характеризуется как коренной перелом в ходе войн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9 ноября  1942 года – успешное контрнаступление советских войск под Сталинград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Июль 1943 года – битва на Курской дуге. Овладение стратегической инициативой Советской Армией.  Развитие наступления по всему фронту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Август – сентябрь 1943 года – освобождение Орла, Белгорода, Харькова, Смоленска, Киев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III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период (с января 1944 года по 9 мая 1945 года)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Изгнание немецко – фашистских войск с территории СССР, освобождение стран Европы от немецко – фашистских захватчиков, капитуляция Германи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Январь 1944 года – снятие блокады Ленинград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Февраль 1944 года – Корсунь – Шевченковская операция советского командования, в ходе которой была уничтожена мощная группировка войск противник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Апрель 1944 года – операция «Багратион». Разгром группы «Центр». Освобождение Белорусси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К осени 1944 года – освобождены Советской Армией Молдавия, Карелия, Закарпатская Украина, Прибалтика, Заполярье, Румыния, Болгария, Югославия, Словаки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Зима – весна 1945 года – освобождение Польши, Венгрии, Австрии, Чехословаки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Апрель – 8 мая 1945 года – Берлинская операция. Капитуляция Германии.</a:t>
            </a:r>
            <a:br>
              <a:rPr sz="1600"/>
            </a:br>
            <a:br>
              <a:rPr sz="1600"/>
            </a:br>
            <a:r>
              <a:rPr b="0" lang="ru-RU" sz="1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1871640" cy="109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843280" y="5445000"/>
            <a:ext cx="1731960" cy="1127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003640" y="5373720"/>
            <a:ext cx="1584360" cy="1225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236000" y="4869000"/>
            <a:ext cx="12855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59280" y="4076640"/>
            <a:ext cx="2670120" cy="2157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3272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ru-RU" sz="14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ru-RU" sz="14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тоги и последствия войн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. Огромные людские и материальные потери в войн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. Ликвидация угрозы порабощения человечества фашизмо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3. Возрастание международного авторитета СССР. Превращение СССР в сверхдержаву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4. Рост антиколониального движения в ми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5. Усиление соперничества и противостояния в Западной Европе и на Восток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rot="1059000">
            <a:off x="324000" y="4149360"/>
            <a:ext cx="2908080" cy="2060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1410600">
            <a:off x="5508720" y="4292280"/>
            <a:ext cx="31636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Monotype Corsiva"/>
              </a:rPr>
              <a:t>Страницы Великой Отечественной войны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Monotype Corsiva"/>
              </a:rPr>
              <a:t>в истории моей семь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33" descr="P5010004"/>
          <p:cNvPicPr/>
          <p:nvPr/>
        </p:nvPicPr>
        <p:blipFill>
          <a:blip r:embed="rId2"/>
          <a:stretch/>
        </p:blipFill>
        <p:spPr>
          <a:xfrm>
            <a:off x="826920" y="1916280"/>
            <a:ext cx="3362400" cy="44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968720" y="1844640"/>
            <a:ext cx="349884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Monotype Corsiva"/>
              </a:rPr>
              <a:t>Фронтовые дорог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Monotype Corsiva"/>
              </a:rPr>
              <a:t>Грачёва Василия Иванович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1280" y="1773000"/>
            <a:ext cx="460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гда я слышу о войне, то вспоминаю о своём прадедушке. Грачев Василий Иванович прошёл армейскими дорогами долгие 1938 – 1946 го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одился он в многодетной семье крестьян – тружеников в селе Барановка Черноярского района. Все четыре брата и сестра с детства были приучены к труду, знали, что такое ответственность, терпеливость, уважение. Отец семейства Иван    Грачёв (мой прапрадед) участвовал в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ой мировой, как тогда говорили «воевал с германцами». Василий вырос смышленым, шустрым, не боялся браться за любое дело, всё доводил до конца, очень любил отца с матерью. В 1938 году призвался в Красную Армию, ещё не зная о том, что не расстанется со службой до весны 1945 года. Был кавалеристом. Демобилизовался в апреле 1941 - го года, а в июне началась война. В декабре дедушка уже защищал Сталинград – самый близкий город в его родном кра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8736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48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 зорким и быстрым наводчиком станкового пулемёта. В военной истории моего дедушки были и плен, и концлагерь. Родным он рассказывал случай о том, как в лагере немцы подняли ночью всех пленных по тревоге, приказали раздеваться и повели на расстрел. По дороге дедушка мысленно попрощался с жизнью, с родными, но судьба подарила ему чудесное спасение. Раздалась автоматная очередь, падали сражённые насмерть товарищи, упал и он. Очнулся под холодными телами, выбрался из ямы и побежал. Долго добирался до своих, переплывал речушки, шёл полем и лесом, вышел к  линии фронт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евал дед доблестно, заслужил много наград – Орден Отечественной войны, медали «За победу над Германией в Великой Отечественной войне 1941 – 1945 гг.»,  медаль Жукова, юбилейные медали. Имел ранение в кисть левой ру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беду встретил в Чехии с большой радостью. Вернулся в родные края только в апреле 1946 года. Приступил к работе,  пахал, сеял, убирал урожа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лхоз «Путь к коммунизму», в котором он начинал работать до армии, преобразовался в совхоз «Черноярский», повысилась и должность – бригадир тракторной бригады. За добросовестный труд награждён медалью «За трудовую доблесть», неоднократно был победителем социалистических соревнований, фотография моего прадедушки  занимала место на доске почё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моего прадедушки много учеников, которым он передавал свой опыт. Все они вспоминают его добрыми словами, и хранят о нём светлую памя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 горжусь своим прадед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1"/>
          <p:cNvSpPr txBox="1"/>
          <p:nvPr/>
        </p:nvSpPr>
        <p:spPr>
          <a:xfrm>
            <a:off x="2556000" y="18900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семейного архива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75104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20000" y="189000"/>
            <a:ext cx="169380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132000" y="836640"/>
            <a:ext cx="2524320" cy="175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590560" cy="1895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11280" y="2781360"/>
            <a:ext cx="129204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300720" y="2924280"/>
            <a:ext cx="2378160" cy="1609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1835280" y="4869000"/>
            <a:ext cx="52178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0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2050920" y="189000"/>
            <a:ext cx="2230560" cy="1501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4"/>
          <a:stretch/>
        </p:blipFill>
        <p:spPr>
          <a:xfrm>
            <a:off x="4859280" y="189000"/>
            <a:ext cx="1066680" cy="150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160720" cy="146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Рисунок1"/>
          <p:cNvPicPr/>
          <p:nvPr/>
        </p:nvPicPr>
        <p:blipFill>
          <a:blip r:embed="rId6"/>
          <a:stretch/>
        </p:blipFill>
        <p:spPr>
          <a:xfrm>
            <a:off x="468360" y="1916280"/>
            <a:ext cx="1073160" cy="154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7"/>
          <a:stretch/>
        </p:blipFill>
        <p:spPr>
          <a:xfrm>
            <a:off x="2050920" y="1916280"/>
            <a:ext cx="2232000" cy="159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8"/>
          <a:stretch/>
        </p:blipFill>
        <p:spPr>
          <a:xfrm>
            <a:off x="4859280" y="1916280"/>
            <a:ext cx="1049400" cy="150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9"/>
          <a:stretch/>
        </p:blipFill>
        <p:spPr>
          <a:xfrm>
            <a:off x="6300720" y="1916280"/>
            <a:ext cx="2087640" cy="146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10"/>
          <a:stretch/>
        </p:blipFill>
        <p:spPr>
          <a:xfrm>
            <a:off x="539640" y="3716280"/>
            <a:ext cx="984240" cy="1427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11"/>
          <a:stretch/>
        </p:blipFill>
        <p:spPr>
          <a:xfrm>
            <a:off x="2050920" y="3645000"/>
            <a:ext cx="2160720" cy="155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12"/>
          <a:stretch/>
        </p:blipFill>
        <p:spPr>
          <a:xfrm>
            <a:off x="4859280" y="3716280"/>
            <a:ext cx="1077840" cy="1505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13"/>
          <a:stretch/>
        </p:blipFill>
        <p:spPr>
          <a:xfrm>
            <a:off x="6372360" y="3716280"/>
            <a:ext cx="2160360" cy="14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14"/>
          <a:stretch/>
        </p:blipFill>
        <p:spPr>
          <a:xfrm>
            <a:off x="539640" y="5373720"/>
            <a:ext cx="982800" cy="1370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15"/>
          <a:stretch/>
        </p:blipFill>
        <p:spPr>
          <a:xfrm>
            <a:off x="2124000" y="5353200"/>
            <a:ext cx="2016360" cy="138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16"/>
          <a:stretch/>
        </p:blipFill>
        <p:spPr>
          <a:xfrm>
            <a:off x="4932360" y="5397480"/>
            <a:ext cx="944640" cy="134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7"/>
          <a:stretch/>
        </p:blipFill>
        <p:spPr>
          <a:xfrm>
            <a:off x="6443640" y="5376960"/>
            <a:ext cx="2016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1103400" cy="151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2262240" cy="150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4"/>
          <a:stretch/>
        </p:blipFill>
        <p:spPr>
          <a:xfrm>
            <a:off x="4859280" y="189000"/>
            <a:ext cx="1101960" cy="1519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6"/>
          <a:stretch/>
        </p:blipFill>
        <p:spPr>
          <a:xfrm>
            <a:off x="468360" y="1916280"/>
            <a:ext cx="1085760" cy="1506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7"/>
          <a:stretch/>
        </p:blipFill>
        <p:spPr>
          <a:xfrm>
            <a:off x="1763640" y="1916280"/>
            <a:ext cx="2232000" cy="1519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8"/>
          <a:stretch/>
        </p:blipFill>
        <p:spPr>
          <a:xfrm>
            <a:off x="4859280" y="1916280"/>
            <a:ext cx="1119240" cy="1577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9"/>
          <a:stretch/>
        </p:blipFill>
        <p:spPr>
          <a:xfrm>
            <a:off x="6300720" y="1916280"/>
            <a:ext cx="2232000" cy="149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/>
          <p:cNvPicPr/>
          <p:nvPr/>
        </p:nvPicPr>
        <p:blipFill>
          <a:blip r:embed="rId10"/>
          <a:stretch/>
        </p:blipFill>
        <p:spPr>
          <a:xfrm>
            <a:off x="468360" y="3645000"/>
            <a:ext cx="1116000" cy="149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11"/>
          <a:stretch/>
        </p:blipFill>
        <p:spPr>
          <a:xfrm>
            <a:off x="1763640" y="3645000"/>
            <a:ext cx="2232000" cy="150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12"/>
          <a:stretch/>
        </p:blipFill>
        <p:spPr>
          <a:xfrm>
            <a:off x="4932360" y="3716280"/>
            <a:ext cx="1030320" cy="1435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13"/>
          <a:stretch/>
        </p:blipFill>
        <p:spPr>
          <a:xfrm>
            <a:off x="6300720" y="3645000"/>
            <a:ext cx="2252880" cy="150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"/>
          <p:cNvPicPr/>
          <p:nvPr/>
        </p:nvPicPr>
        <p:blipFill>
          <a:blip r:embed="rId14"/>
          <a:stretch/>
        </p:blipFill>
        <p:spPr>
          <a:xfrm>
            <a:off x="468360" y="5373720"/>
            <a:ext cx="1035000" cy="14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15"/>
          <a:stretch/>
        </p:blipFill>
        <p:spPr>
          <a:xfrm>
            <a:off x="1763640" y="5373720"/>
            <a:ext cx="2089080" cy="138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16"/>
          <a:stretch/>
        </p:blipFill>
        <p:spPr>
          <a:xfrm>
            <a:off x="5025960" y="5373720"/>
            <a:ext cx="970200" cy="1368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"/>
          <p:cNvPicPr/>
          <p:nvPr/>
        </p:nvPicPr>
        <p:blipFill>
          <a:blip r:embed="rId17"/>
          <a:stretch/>
        </p:blipFill>
        <p:spPr>
          <a:xfrm>
            <a:off x="6300720" y="5373720"/>
            <a:ext cx="2016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7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Уже в первые дни войны было принято решение об эвакуации промышленных  предприятий на восток. 24 июня 1941 года был образован Совет по эвакуации во главе с Н.Шверником. 27 июня было принято Постановление ЦК ВКП(б)  и СНК о порядке вывоза и размещения людских  контингентов и ценного имущества. В 1941 году на востоке было эвакуировано свыше 2,5 тысяч предприятий, научные учреждения и учебные заведения. Эвакуированные предприятия направлялись в Поволжье, Западную Сибирь, Казахстан, Среднюю Азию, но более всего (44%) – на Урал. В начальный период войны (до конца 1941 года) промышленное производство сократилось на 5% в связи с захватом одних предприятий и перебазировкой других. Проведённая в феврале 1942 года мобилизация городского населения позволила направить в промышленность и строительство более 3 миллионов человек. Для пополнения рядов специалистов была создана система ускоренных курсов при фабрично – заводских училищах. Велась усиленная кампания «социалистического соревнования» и «курса на рекорды»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 весны 1942 года прекратился спад военного производства и начался его рост. А к концу 1942 года СССР опередил Германию в выпуске боевой техники (и качественно, и количественно). Этому способствовали: простота конструкции, лёгкость освоения на производстве (поточные линии, штамповка, автосварка). Модернизированные советские танки Т – 34 превосходили аналогичные немецкие. Создать штурмовик, подобный нашему ИЛ – 2, немцам так и не удалось. Был налажен серийный выпуск истребителей Як – 9 и Як – 3, бомбардировщиков Ту – 2. Началось массовое производство «катюш». Благодаря этому стало возможным формирование танковых корпусов и авиационных соединений. Своего максимального уровня производство вооружения достигло в 1944 г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619280" y="476280"/>
            <a:ext cx="611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ство фронта и тыла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Трудовой подвиг подростков войны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в воспоминаниях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очарниковой Марии Ивановн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8360" y="1328400"/>
            <a:ext cx="8280360" cy="55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доме прабабушки светло и уютно. Здесь всё дышит добротой, трудолюбием, покоем и любовью. Во всём чувствуется причастность заботливых и умелых рук женщины - труженицы. Моя прабабушка – Бочарникова Мария Ивановна прожила долгую жизнь и многое видела на своем веку. Но самым серьезным испытанием, выпавшим на её долю, стала война, самая страшная из всех войн – Великая Отечественная. Почетное звание ветеран носит прабабушка, как   труженик тыл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не, её правнучке, заставшей всего несколько лет конца двадцатого века от рождения, очень интересен  неторопливый, взволнованный рассказ о военных годах, выпавших на  раннюю юность бабуш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«Утром 22 июня 1941 года сообщение по радио собрало всех жителей села Тундутово Малодербетовского района Сталинградской области на площадке перед сельским  Советом. Хмурые лица мужчин, плачь женщин навсегда остались в памяти. Мы, подростки 14 – 15 лет, до конца ещё не понимали, что такое война. Познать это сполна пришлось за долгие четыре военных года. Сразу же началась мобилизация. Семьи сельчан поредели. У кого-то ушёл отец, у кого-то - брат, у кого-то - сразу несколько мужчин из семьи. На проводах чувствовалась тревожность, стоял плач. Новобранцы пешком отправлялись в Малый Дербет за три километра от села, оттуда на грузовиках до железно-дорожной станции Абгонеров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0403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униципальное общеобразовательное учреждени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Средняя общеобразовательная школа с.Черный Яр»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ейный архи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ческое название проекта: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енные страницы архива семь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ы: Никулина Ирина ученица  8  «б» класса МОУ «СОШ с. Черный Яр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аньева Мария Викторовна студентка Волгоград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уководитель: Ананьева Татьяна Михайл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истор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 работы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У «СОШ с. Черный Я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ерный Яр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амой трудной  выдалась осень 1942 года. Война показала своё страшное лицо. Линия фронта приближалась к Сталинграду. В небе не прекращался гул самолётов. Мы на слух научились отличать звуки немецких и своих двигателей на самолётах . Над Сталинградом по ночам стояло зарево пожаров. Гром взрывов не прекращался круглые сутки. А было это примерно за сто километров. Из села стали вывозить ценности, технику. Перед самой войной в центре  села была построена большая мельница. Помню, как демонтировали с неё новый паровой мотор, вывозили документацию. Как жаль было вложенный труд в строительство такого важного для села объекта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Молодёжь стали направлять на рытьё окопов и противотанковых рвов. Они были расположены вдоль дороги и казались нам бесконечными. Кроме этого, мы работали над подготовкой места под полевой аэродром: ровняли кочки и бугры, убирали камни, засыпали ямы. Старались, насколько возможно, сделать площадку ровнее и качественнее. Наши солдаты зашли в село, но тут же отступили. Их сменили румынские войска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Тундутово оказалось на самой линии фронта. Калмыцкие земли были заняты советскими войсками, а все близлежащие   сёла Обильное, Плодовитое, Малый Дербет, Садовое и наше Тундутово захватили румыны. У нас в селе они простояли с сентября по ноябрь. Из домов и подворий сельчан оккупанты  забрали все продовольственные запасы: фуражное зерно, всю живность: скот, птицу. Входили во двор с автоматами и громко командовали. Отчётливо помню их исковерканные русские слова: «Курки – яйки! Курки – яйки!» По воскресеньям приезжали немцы, в степи собирали скотину, забивали, грузили на машины, увозили. Вскоре начался настоящий голод. Во сне нам часто снился хлеб, мечтали о самой маленькой горбушке черного хлеба. </a:t>
            </a:r>
            <a:br>
              <a:rPr sz="1400"/>
            </a:b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11" descr="сканирование00074"/>
          <p:cNvPicPr/>
          <p:nvPr/>
        </p:nvPicPr>
        <p:blipFill>
          <a:blip r:embed="rId2"/>
          <a:stretch/>
        </p:blipFill>
        <p:spPr>
          <a:xfrm>
            <a:off x="2987640" y="4749840"/>
            <a:ext cx="2952720" cy="1955880"/>
          </a:xfrm>
          <a:prstGeom prst="rect">
            <a:avLst/>
          </a:prstGeom>
          <a:ln w="9360">
            <a:solidFill>
              <a:srgbClr val="cc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оябре началось контрнаступление наших войск. Когда освобождали Тундутово, громогласное «Ура-а-а!» разносилось по округе c такой силой, что мы думали, что в наступление идёт несметное войско. После окончания атаки мы увидели бойцов того «несметного войска». В село ворвались сотни две молоденьких солдат. На вид это были почти мальчишки, в оборванном обмундировании, все в грязи и копоти с голыми коленками, винтовками наперевес. Оружие было не у каждого. Мы радовались своим воинам-освободителям до слёз. Румыны были взяты в плен. А наступление продолжило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ело к нам был направлен демобилизованный солдат. Он был без руки, прихрамывал. Собрал ребятишек, дал задание наводить порядок. Одной группе - рыть две большие могилы, другую (в неё вошла я) направил с лошадью и телегой  собирать трупы. Мёртвых тел было очень много: и на открытом месте, и в окопах, и в камышах. Большинство их вмёрзли в лёд. Мы отрывали их от земли, топорами вырубали изо льда  и грузили в повозку. В селе хоронили своих отдельно от румын. В дома сельчан тоже без конца шли похоронки. Смерть была такой обыденной и привычной, что не было ни страха, ни боязни, только душевная боль от такого огромного количества оборвавшихся жиз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же нас направили в Сталинград расчищать завалы. Ведь город лежал в руинах. Оставшиеся в живых горожане жили в уцелевших подвалах, ямах. Порой, можно было угодить в чье-то «жилище», нечаянно наступив на обломки строительного мусора, прикрывавшие углубление в земле. Пленные немцы и румыны также работали на расчистках. Это были уже зимние месяцы. Встречалось много пленных с обмороженными пальцами рук и ног. У некоторых был страшный вид, черные кости выглядывали из тряпья, намотанного на конечности. Нам было жалко и своих, и немце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вращались из Сталинграда пешком. Ночью свернули с дороги и заблудились в камышах. Пройти пешком путь в сто километров было для нас - подростков тяжело, но всё одоле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есной стали возрождать колхоз. Собрали оставшихся в степи румынских лошадей и чудом сохранившихся в некоторых подворьях  коров.  Пахали землю на коровах женщины, а следом шли мы, ребятишки. К поясу у каждого был привязан мешок, в нём по ведру зерна, которое мы разбрасывали рукой, через каждые два-три шага. Первый военный урожай уродился неплох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 следующую осень вновь открыли школу. Мебели и оборудования в ней совсем не было. Каждый ученик шёл со своим  стулом, табуреткой,  кто-то принёс столы. Писали на старых книжках и газетах между строк. Перо было куриным, а вместо чернил разводили сажу. Учебник был один на весь класс. Старались придти в школу пораньше, чтобы прочитать домашнее задание. Но к учёбе относились со всей серьёзностью, понимали, что надо закончить школу.  Положение с питанием стало получше. Хлеб раздавали по карточкам по триста граммов. Постепенно жизнь налаживалась. После девятого класса мы старались продолжить учёбу. Я выбрала Дубовское педагогическое училище и в 1948 году уже стала работать учителе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ойна, голод, наш тяжелый  детский труд останется в памяти навсегда. Дай бог, чтобы никогда этого не повторилось»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ольше сорока лет моя прабабушка проработала в образовании. Жизненный опыт и житейская мудрость всегда подсказывали ей правильный путь к сердцам учеников и воспитанников. Никакие трудности не пугали её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сканирование00065"/>
          <p:cNvPicPr/>
          <p:nvPr/>
        </p:nvPicPr>
        <p:blipFill>
          <a:blip r:embed="rId2"/>
          <a:stretch/>
        </p:blipFill>
        <p:spPr>
          <a:xfrm>
            <a:off x="5003640" y="4651200"/>
            <a:ext cx="2737080" cy="1968840"/>
          </a:xfrm>
          <a:prstGeom prst="rect">
            <a:avLst/>
          </a:prstGeom>
          <a:ln w="9360">
            <a:solidFill>
              <a:srgbClr val="cccccc"/>
            </a:solidFill>
            <a:miter/>
          </a:ln>
        </p:spPr>
      </p:pic>
      <p:pic>
        <p:nvPicPr>
          <p:cNvPr id="163" name="Picture 5" descr="сканирование0002"/>
          <p:cNvPicPr/>
          <p:nvPr/>
        </p:nvPicPr>
        <p:blipFill>
          <a:blip r:embed="rId3"/>
          <a:stretch/>
        </p:blipFill>
        <p:spPr>
          <a:xfrm>
            <a:off x="1547640" y="4672080"/>
            <a:ext cx="2664000" cy="1976400"/>
          </a:xfrm>
          <a:prstGeom prst="rect">
            <a:avLst/>
          </a:prstGeom>
          <a:ln w="9360">
            <a:solidFill>
              <a:srgbClr val="cc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всем немного времени прошло после знаменательной даты 65-летия Победы советского народа над фашистской Германией в Великой Отечественной войне. Маленькая толика в эту великую Победу вложена и трудом моей прабабушки. Лозунг «Всё для фронта – всё для Победы!» был смыслом существования всех, кто жил и работал в тылу в то военное время. В течение долгих четырёх лет изо дня в день ратным подвигом и тяжёлым трудом ковалась Великая Победа. Сила духа, нравственные и душевные силы – величайшая добродетель – помогли пережить нечеловеческую усталость, голод, лишения. Пусть  тёплые слова уважения и искренней благодарности согревают душу таких ветеранов, как моя прабабушка. Сегодняшнее поколение россиян, по моему убеждению, должно одинаково чтить и память солдат, павших на фронтах войны, и тех, кто пережил войну и  ещё рядом с нами – ветеранов Великой Отечественной, тружеников тыла, вдов погибших и умерших солдат, узников лагерей, детей войны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йна не прошла бесследно для народа нашей великой страны. Этот глубокий и горький след навсегда останется и в моей семье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6" descr=""/>
          <p:cNvPicPr/>
          <p:nvPr/>
        </p:nvPicPr>
        <p:blipFill>
          <a:blip r:embed="rId2"/>
          <a:stretch/>
        </p:blipFill>
        <p:spPr>
          <a:xfrm>
            <a:off x="1619280" y="5084640"/>
            <a:ext cx="2376360" cy="154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692360" y="333360"/>
            <a:ext cx="59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семейного архива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135080" cy="1582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rcRect l="65" t="-210" r="0" b="0"/>
          <a:stretch/>
        </p:blipFill>
        <p:spPr>
          <a:xfrm>
            <a:off x="1619280" y="1628640"/>
            <a:ext cx="2232000" cy="1549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4681440" cy="163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3059280" y="3645000"/>
            <a:ext cx="1501560" cy="2985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6"/>
          <a:stretch/>
        </p:blipFill>
        <p:spPr>
          <a:xfrm>
            <a:off x="4425840" y="3638520"/>
            <a:ext cx="1471680" cy="3002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7"/>
          <a:stretch/>
        </p:blipFill>
        <p:spPr>
          <a:xfrm>
            <a:off x="6227640" y="3645000"/>
            <a:ext cx="2556000" cy="1641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"/>
          <p:cNvPicPr/>
          <p:nvPr/>
        </p:nvPicPr>
        <p:blipFill>
          <a:blip r:embed="rId8"/>
          <a:stretch/>
        </p:blipFill>
        <p:spPr>
          <a:xfrm>
            <a:off x="6227640" y="5272200"/>
            <a:ext cx="2556000" cy="140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9"/>
          <a:stretch/>
        </p:blipFill>
        <p:spPr>
          <a:xfrm>
            <a:off x="324000" y="3645000"/>
            <a:ext cx="2376360" cy="15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10"/>
          <a:stretch/>
        </p:blipFill>
        <p:spPr>
          <a:xfrm>
            <a:off x="324000" y="5156280"/>
            <a:ext cx="23778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Клипарт С Днём Победы"/>
          <p:cNvPicPr/>
          <p:nvPr/>
        </p:nvPicPr>
        <p:blipFill>
          <a:blip r:embed="rId2"/>
          <a:stretch/>
        </p:blipFill>
        <p:spPr>
          <a:xfrm>
            <a:off x="1979640" y="260280"/>
            <a:ext cx="4753080" cy="2971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С ДНЁМ ПОБЕДЫ! 02"/>
          <p:cNvPicPr/>
          <p:nvPr/>
        </p:nvPicPr>
        <p:blipFill>
          <a:blip r:embed="rId3"/>
          <a:stretch/>
        </p:blipFill>
        <p:spPr>
          <a:xfrm>
            <a:off x="250920" y="3500280"/>
            <a:ext cx="4248000" cy="2833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С ДНЁМ ПОБЕДЫ! 06"/>
          <p:cNvPicPr/>
          <p:nvPr/>
        </p:nvPicPr>
        <p:blipFill>
          <a:blip r:embed="rId4"/>
          <a:stretch/>
        </p:blipFill>
        <p:spPr>
          <a:xfrm>
            <a:off x="4643280" y="3500280"/>
            <a:ext cx="4248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091351af80f2cbd5254237b67c110c6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6309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стория развития локального конфлик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50560" y="213372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ервая Чеченская война 1944 – 1996 год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ервая Чеченская война - военный конфликт между Российской Федерацией и Чеченской Республикой Ичкерией, который происходил в основном на территории Чечни в период с 1994 года по 1996 год. Результатом конфликта стала победа чеченских вооруженных сил и вывод российских войск, массовые разрушения, жертвы и сохранение Чечней независимости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Конфликт заключался в стремлении России присоединить к себе Чеченскую Республику Ичкерию, которая с соблюдением всех законодательных норм и Конституции СССР была преобразована сначала в союзную республику в составе СССР, став шестнадцатой союзной республикой, а затем реализовала свое конституционное право на выход из состава СССР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324000" y="404640"/>
            <a:ext cx="842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ченская война в судьбе поколения семидесятых</a:t>
            </a:r>
            <a:endParaRPr b="0" lang="en-US" sz="3200" spc="1" strike="noStrike">
              <a:ln w="381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353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торая Чеченская война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торая чеченская война  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боевые действия на территории Чеченской Республики и приграничных  регионов Северного Кавказа. Началась 30 сентября 1999 года. Активная фаза боевых действий продолжалась с 1999 по 2000 год, затем, по мере установления контроля Вооружёнными силами России над территорией Чечни, переросла в тлеющий конфликт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Кремль сделал ставку на «чеченизацию»  конфликта и переманивание на свою сторону части элиты и бывших боевиков. Так, во главе  прокремлевской администрации Чечни в 2000 стал бывший сторонник сепаратистов Ахмат Кадыров. Боевики, напротив, сделали ставку на интернационализацию конфликта, вовлекая в свою борьбу вооруженные отряды нечеченского происхождения. К началу 2005, после уничтожения Масхадова, Хаттаба, Бараева, Абу аль-Валида и многих других полевых командиров, интенсивность диверсионно-террористической деятельности боевиков значительно снизилась. За 2005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008 в России не было совершено ни одного крупного теракта, а единственная масштабная операция боевиков (Рейд на Кабардино-Балкарию 13 октября 2005) завершилась полным провалом.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76720" y="4221000"/>
            <a:ext cx="2736720" cy="1924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 rot="20391600">
            <a:off x="1619280" y="4149360"/>
            <a:ext cx="1785960" cy="2255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5724360" y="3645000"/>
            <a:ext cx="2279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571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Monotype Corsiva"/>
              </a:rPr>
              <a:t>   </a:t>
            </a:r>
            <a:r>
              <a:rPr b="0" lang="ru-RU" sz="14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1-2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марта — крупная спецоперация силовиков в Дагестане. В результате тяжёлых боёв с использованием вертолётов и бронетехники силы местного МВД и УФСБ при поддержке Внутренних войск МВД РФ ликвидируют в Унцукульском районе республики 12 боевиков. Потери федеральных войск составляют 5 человек убитыми, летом 2009 г. двое военнослужащих спецназа посмертно получили за участие в этих боевых действиях звание Героя России. Одновременно с этим в Махачкале милиция в бою уничтожает ещё 4-х вооружённых экстремистов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5 апреля — последние сутки режима контртеррористической операци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Несмотря на официальную отмену контртеррористической операции, обстановка в регионе спокойнее не стала, скорее наоборот, боевики активизировались, участились случаи террористических актов. Крупный теракт произошел 6 января в Дагестане, террорист—смертник взорвал заминированную машину у здания городского ГИБДД. В результате на месте погибли 5 милиционеров. Есть мнения, что боевиков финансирует Аль-Кайда. Некоторые аналитики считают, что обострение может перерасти в «третью чеченскую войну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торая чеченская война, начавшаяся в 1999 году, сопровождалась большими людскими жертвами среди военнослужащих федеральной группировки войск, активистов чеченских вооружённых формирований и мирных жителей республики. Несмотря на то, что о прекращении контртеррористической операции в Чечне было официально заявлено после взятия Шатоя 29 февраля 2000 года, военные действия продолжались и после этой даты, приводя к новым людским потерям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Учебный предмет: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 истор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Участники проекта: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Никулина Ирина Сергеевн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у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ченица  МОУ «СОШ с. Чёрный Яр» 8 «б»  класса, Ананьева Мария Викторовна студентка Волгоградского государственного университе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Цели проект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Дидактические цели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проекта: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формирование чувства  гражданственности, патриотизма через осознание своей принадлежности к истории семьи, края,  страны; уважения и признательности к наследию старшего поколения; определить взаимосвязь личности и истории государства, сопричастность  фактов из  семейного архива и общих явлений истор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Методические цели проект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р</a:t>
            </a: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азвитие мировоззрения, мышления, личности школьников, формирование умения коллективной рабо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формирование умения  работы с различными источниками информа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формирование умения  обработки и обобщения полученной информации в результате анализа документов и данных источник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приобретение практических навыков сбора краеведческих данных, записи и анализа рассказов очевидцев исторических событий, пополнения семейных архив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развитие познавательной актив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eorgia"/>
              </a:rPr>
              <a:t>формирование навыка решения проблемных задач, сочетания усвоенных знаний с самостоятельной деятельность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Никулин Сергей Иванович -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участник боевых действи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075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Боевые действия в мирное время бывают редко. Они называются локальными конфликтами. Везде мирная жизнь, а где-то рядом идёт война. Такой войной стал чеченский конфликт, который долгое время был незаживающей раной на карте Росс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Мой папа Никулин Сергей Иванович – участник этого военного конфликта. Закончив институт, он пошёл на службу в армию. Служил офицером в Чечне. Папа не любит рассказывать о том времени. Говорит только, что было сложно и тяжело. По его военным документам я выяснила, что он ветеран боевых действий. Выполнял правительственное задание и специальные задачи в городе Грозн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ернувшись со срочной службы в армии, папа работал в военном комиссариате, а сейчас имеет звание подполковника. Его должность – заместитель начальника районного отдела внутренних дел, начальник криминальной милиц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5" descr="сканирование0004"/>
          <p:cNvPicPr/>
          <p:nvPr/>
        </p:nvPicPr>
        <p:blipFill>
          <a:blip r:embed="rId2"/>
          <a:stretch/>
        </p:blipFill>
        <p:spPr>
          <a:xfrm>
            <a:off x="3348000" y="4724280"/>
            <a:ext cx="2305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311640" cy="2401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сканирование0007"/>
          <p:cNvPicPr/>
          <p:nvPr/>
        </p:nvPicPr>
        <p:blipFill>
          <a:blip r:embed="rId3"/>
          <a:stretch/>
        </p:blipFill>
        <p:spPr>
          <a:xfrm>
            <a:off x="539640" y="3141720"/>
            <a:ext cx="2214720" cy="3182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сканирование0008"/>
          <p:cNvPicPr/>
          <p:nvPr/>
        </p:nvPicPr>
        <p:blipFill>
          <a:blip r:embed="rId4"/>
          <a:stretch/>
        </p:blipFill>
        <p:spPr>
          <a:xfrm>
            <a:off x="3419640" y="3141720"/>
            <a:ext cx="2117520" cy="326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сканирование0009"/>
          <p:cNvPicPr/>
          <p:nvPr/>
        </p:nvPicPr>
        <p:blipFill>
          <a:blip r:embed="rId5"/>
          <a:stretch/>
        </p:blipFill>
        <p:spPr>
          <a:xfrm>
            <a:off x="6156360" y="3141720"/>
            <a:ext cx="2340000" cy="3257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84360" y="404640"/>
            <a:ext cx="330984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P5010269"/>
          <p:cNvPicPr/>
          <p:nvPr/>
        </p:nvPicPr>
        <p:blipFill>
          <a:blip r:embed="rId2"/>
          <a:stretch/>
        </p:blipFill>
        <p:spPr>
          <a:xfrm>
            <a:off x="-108000" y="0"/>
            <a:ext cx="9468000" cy="6875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3860640"/>
            <a:ext cx="8207280" cy="2665440"/>
          </a:xfrm>
          <a:prstGeom prst="rect">
            <a:avLst/>
          </a:prstGeom>
          <a:solidFill>
            <a:srgbClr val="ff99cc">
              <a:alpha val="44000"/>
            </a:srgbClr>
          </a:solidFill>
          <a:ln w="7632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вторы: Никулина Ирина ученица  8  «б» класса МОУ «СОШ с. Чёрный Яр» Астраханской области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наньева Мария студентка Волгоградского государственного университета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Руководитель: Ананьева Татьяна Михайловна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учитель истории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Проблемы самостоятельного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полнение семейного архива данными трёх поколений семьи: участники Великой Отечественной войны; подростки – труженики тыла; участники современных локальных конфликтов (Чеченская вой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ие военных событий истории Отечества, истории родного края в годы Великой Отечественной войны и локальных вой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Значение семьи и её истории в жизни человека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Страницы Великой Отечественной войны в истории моей семьи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Историческая справк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Фронтовые дороги Грачёва Василия Иванович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Единство фронта и тыл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Трудовой подвиг подростков войны в воспоминаниях Бочарниковой Марии Ивановн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Чеченская война в судьбе поколения семидесятых: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История развития локального конфликт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Никулин Сергей Иванович - участник боевых действий 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Monotype Corsiva"/>
              </a:rPr>
              <a:t>Значение семьи и её истории в жизни челове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92360" y="836640"/>
            <a:ext cx="540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семейном кругу мы с вами растё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снова основ – родительский д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семейном кругу все корни твои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И в жизнь ты входил из семь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семейном кругу мы жизнь создаё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снова основ – родительский д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емья – самое главное в жизни для каждого из нас. Семья – это близкие и родные люди. Те, кого мы любим, с кого берём пример, о ком заботимся, кому желаем добра и счастья. Именно в семье мы учимся любви, ответственности, заботе и уважен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амять. Без неё человек не может жить. Память есть у растений, камня, сохранившего отпечатки доисторических животных. Память – то, что связывает нас со своими корнями. Существует такое понятие, как родословная семьи. Знать свою родословную очень важно, потому что она – связь между прошлым, настоящим и будущим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39" descr="P5010033"/>
          <p:cNvPicPr/>
          <p:nvPr/>
        </p:nvPicPr>
        <p:blipFill>
          <a:blip r:embed="rId2"/>
          <a:stretch/>
        </p:blipFill>
        <p:spPr>
          <a:xfrm rot="426000">
            <a:off x="2484360" y="5444640"/>
            <a:ext cx="1649520" cy="123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1" descr="P5020335"/>
          <p:cNvPicPr/>
          <p:nvPr/>
        </p:nvPicPr>
        <p:blipFill>
          <a:blip r:embed="rId3"/>
          <a:stretch/>
        </p:blipFill>
        <p:spPr>
          <a:xfrm rot="444000">
            <a:off x="5866920" y="544464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2" descr="DSC_0181"/>
          <p:cNvPicPr/>
          <p:nvPr/>
        </p:nvPicPr>
        <p:blipFill>
          <a:blip r:embed="rId4"/>
          <a:stretch/>
        </p:blipFill>
        <p:spPr>
          <a:xfrm rot="21266400">
            <a:off x="4140360" y="5444640"/>
            <a:ext cx="1800000" cy="119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3" descr="DSC_0704"/>
          <p:cNvPicPr/>
          <p:nvPr/>
        </p:nvPicPr>
        <p:blipFill>
          <a:blip r:embed="rId5"/>
          <a:stretch/>
        </p:blipFill>
        <p:spPr>
          <a:xfrm rot="21308400">
            <a:off x="6877080" y="1125360"/>
            <a:ext cx="1703520" cy="12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P5090430"/>
          <p:cNvPicPr/>
          <p:nvPr/>
        </p:nvPicPr>
        <p:blipFill>
          <a:blip r:embed="rId6"/>
          <a:stretch/>
        </p:blipFill>
        <p:spPr>
          <a:xfrm rot="238800">
            <a:off x="7380000" y="2276640"/>
            <a:ext cx="1044360" cy="158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P4241006"/>
          <p:cNvPicPr/>
          <p:nvPr/>
        </p:nvPicPr>
        <p:blipFill>
          <a:blip r:embed="rId7"/>
          <a:stretch/>
        </p:blipFill>
        <p:spPr>
          <a:xfrm rot="815400">
            <a:off x="324000" y="1268280"/>
            <a:ext cx="1873080" cy="14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P5010004"/>
          <p:cNvPicPr/>
          <p:nvPr/>
        </p:nvPicPr>
        <p:blipFill>
          <a:blip r:embed="rId8"/>
          <a:stretch/>
        </p:blipFill>
        <p:spPr>
          <a:xfrm rot="4852800">
            <a:off x="393840" y="2782440"/>
            <a:ext cx="1744560" cy="13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7" descr="P5010269"/>
          <p:cNvPicPr/>
          <p:nvPr/>
        </p:nvPicPr>
        <p:blipFill>
          <a:blip r:embed="rId9"/>
          <a:stretch/>
        </p:blipFill>
        <p:spPr>
          <a:xfrm rot="21213000">
            <a:off x="7164000" y="378900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DSC_0094"/>
          <p:cNvPicPr/>
          <p:nvPr/>
        </p:nvPicPr>
        <p:blipFill>
          <a:blip r:embed="rId10"/>
          <a:stretch/>
        </p:blipFill>
        <p:spPr>
          <a:xfrm rot="726600">
            <a:off x="179280" y="4220640"/>
            <a:ext cx="1757520" cy="116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9" descr="P3270501"/>
          <p:cNvPicPr/>
          <p:nvPr/>
        </p:nvPicPr>
        <p:blipFill>
          <a:blip r:embed="rId11"/>
          <a:stretch/>
        </p:blipFill>
        <p:spPr>
          <a:xfrm rot="20982000">
            <a:off x="684360" y="537372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0" descr="052"/>
          <p:cNvPicPr/>
          <p:nvPr/>
        </p:nvPicPr>
        <p:blipFill>
          <a:blip r:embed="rId12"/>
          <a:stretch/>
        </p:blipFill>
        <p:spPr>
          <a:xfrm rot="571200">
            <a:off x="7148160" y="4884480"/>
            <a:ext cx="1728720" cy="1211040"/>
          </a:xfrm>
          <a:prstGeom prst="rect">
            <a:avLst/>
          </a:prstGeom>
          <a:ln w="9360">
            <a:solidFill>
              <a:srgbClr val="ba7c3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Генеалогическое древо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семьи Ананьевых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4" name="Picture 23" descr="Рисунок1"/>
          <p:cNvPicPr/>
          <p:nvPr/>
        </p:nvPicPr>
        <p:blipFill>
          <a:blip r:embed="rId2"/>
          <a:stretch/>
        </p:blipFill>
        <p:spPr>
          <a:xfrm>
            <a:off x="179280" y="1628640"/>
            <a:ext cx="8785440" cy="496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P5010044"/>
          <p:cNvPicPr/>
          <p:nvPr/>
        </p:nvPicPr>
        <p:blipFill>
          <a:blip r:embed="rId3"/>
          <a:stretch/>
        </p:blipFill>
        <p:spPr>
          <a:xfrm>
            <a:off x="6516720" y="1773360"/>
            <a:ext cx="75708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P5010271"/>
          <p:cNvPicPr/>
          <p:nvPr/>
        </p:nvPicPr>
        <p:blipFill>
          <a:blip r:embed="rId4"/>
          <a:stretch/>
        </p:blipFill>
        <p:spPr>
          <a:xfrm>
            <a:off x="3564000" y="5084640"/>
            <a:ext cx="1873080" cy="140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5" descr="Фото090"/>
          <p:cNvPicPr/>
          <p:nvPr/>
        </p:nvPicPr>
        <p:blipFill>
          <a:blip r:embed="rId5"/>
          <a:stretch/>
        </p:blipFill>
        <p:spPr>
          <a:xfrm rot="976800">
            <a:off x="6914880" y="3854160"/>
            <a:ext cx="1311120" cy="1860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" descr="P4261186"/>
          <p:cNvPicPr/>
          <p:nvPr/>
        </p:nvPicPr>
        <p:blipFill>
          <a:blip r:embed="rId6"/>
          <a:stretch/>
        </p:blipFill>
        <p:spPr>
          <a:xfrm rot="20593200">
            <a:off x="971280" y="3860280"/>
            <a:ext cx="1353960" cy="180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4" descr="P8040213"/>
          <p:cNvPicPr/>
          <p:nvPr/>
        </p:nvPicPr>
        <p:blipFill>
          <a:blip r:embed="rId7"/>
          <a:stretch/>
        </p:blipFill>
        <p:spPr>
          <a:xfrm>
            <a:off x="2987640" y="1773360"/>
            <a:ext cx="704880" cy="1014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сканирование0001"/>
          <p:cNvPicPr/>
          <p:nvPr/>
        </p:nvPicPr>
        <p:blipFill>
          <a:blip r:embed="rId8"/>
          <a:stretch/>
        </p:blipFill>
        <p:spPr>
          <a:xfrm>
            <a:off x="5435640" y="1773360"/>
            <a:ext cx="760320" cy="106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8" descr="сканирование0003"/>
          <p:cNvPicPr/>
          <p:nvPr/>
        </p:nvPicPr>
        <p:blipFill>
          <a:blip r:embed="rId9"/>
          <a:stretch/>
        </p:blipFill>
        <p:spPr>
          <a:xfrm>
            <a:off x="1908000" y="1773360"/>
            <a:ext cx="756000" cy="1006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9" descr="P5010051"/>
          <p:cNvPicPr/>
          <p:nvPr/>
        </p:nvPicPr>
        <p:blipFill>
          <a:blip r:embed="rId10"/>
          <a:stretch/>
        </p:blipFill>
        <p:spPr>
          <a:xfrm>
            <a:off x="4643280" y="3357720"/>
            <a:ext cx="75564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0" descr="P5010252"/>
          <p:cNvPicPr/>
          <p:nvPr/>
        </p:nvPicPr>
        <p:blipFill>
          <a:blip r:embed="rId11"/>
          <a:stretch/>
        </p:blipFill>
        <p:spPr>
          <a:xfrm>
            <a:off x="3635280" y="3357720"/>
            <a:ext cx="755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Генеалогическое древо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семьи Никулиных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" name="Picture 56" descr="Рисунок2"/>
          <p:cNvPicPr/>
          <p:nvPr/>
        </p:nvPicPr>
        <p:blipFill>
          <a:blip r:embed="rId2"/>
          <a:stretch/>
        </p:blipFill>
        <p:spPr>
          <a:xfrm>
            <a:off x="179280" y="1916280"/>
            <a:ext cx="8785440" cy="4681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2" descr="PIC00001"/>
          <p:cNvPicPr/>
          <p:nvPr/>
        </p:nvPicPr>
        <p:blipFill>
          <a:blip r:embed="rId3"/>
          <a:stretch/>
        </p:blipFill>
        <p:spPr>
          <a:xfrm>
            <a:off x="7524720" y="2276640"/>
            <a:ext cx="503280" cy="757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87" name="Picture 63" descr="PIC00016"/>
          <p:cNvPicPr/>
          <p:nvPr/>
        </p:nvPicPr>
        <p:blipFill>
          <a:blip r:embed="rId4"/>
          <a:stretch/>
        </p:blipFill>
        <p:spPr>
          <a:xfrm>
            <a:off x="2195640" y="3789360"/>
            <a:ext cx="633240" cy="8636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88" name="Picture 68" descr="PIC00018"/>
          <p:cNvPicPr/>
          <p:nvPr/>
        </p:nvPicPr>
        <p:blipFill>
          <a:blip r:embed="rId5"/>
          <a:stretch/>
        </p:blipFill>
        <p:spPr>
          <a:xfrm>
            <a:off x="3259080" y="2276640"/>
            <a:ext cx="593640" cy="7920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89" name="Picture 70" descr="P5301562"/>
          <p:cNvPicPr/>
          <p:nvPr/>
        </p:nvPicPr>
        <p:blipFill>
          <a:blip r:embed="rId6"/>
          <a:stretch/>
        </p:blipFill>
        <p:spPr>
          <a:xfrm>
            <a:off x="6372360" y="3860640"/>
            <a:ext cx="520560" cy="720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90" name="Picture 71" descr="IMG_0640"/>
          <p:cNvPicPr/>
          <p:nvPr/>
        </p:nvPicPr>
        <p:blipFill>
          <a:blip r:embed="rId7"/>
          <a:stretch/>
        </p:blipFill>
        <p:spPr>
          <a:xfrm>
            <a:off x="5364000" y="2276640"/>
            <a:ext cx="592200" cy="7920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91" name="Picture 73" descr="PIC00064"/>
          <p:cNvPicPr/>
          <p:nvPr/>
        </p:nvPicPr>
        <p:blipFill>
          <a:blip r:embed="rId8"/>
          <a:stretch/>
        </p:blipFill>
        <p:spPr>
          <a:xfrm>
            <a:off x="4284720" y="5445000"/>
            <a:ext cx="593640" cy="79236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826920" y="2205000"/>
            <a:ext cx="73188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траницы Великой Отечественной войны в истории моей семьи.</a:t>
            </a:r>
            <a:br>
              <a:rPr sz="20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сторическая справк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еликая Отечественная война  (1941 – 1945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Направление ударов немецко-фашистских войск летом 1941 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Группа «Север» - Прибалтика – Ленингра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Группа «Центр» - Минск – Смоленск – Моск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Группа «Юг» - Западная Украина – Юго – Вост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Боевые действия на фронтах вой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период (с 22 июня 1941 года по 18 ноября 1942 год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2 июня 1941 года – нападение фашистской Германии на СССР. Начало Великой Отечественной вой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Июль – ноябрь 1941 года – мощное наступление немецко – фашистских войск, оккупация Прибалтики, Белоруссии, Украины, Молдавии, наступление на Донбас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Июль – сентябрь – героическая оборона Смоленс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Июль – август – героическая оборона Кие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ентябрь – начало блокады Ленингра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Август – октябрь – героическая оборона Одесс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Ноябрь -  начало героической защиты Севастопо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ентябрь – ноябрь 1941 года – наступление немецко – фашистских войск на Москв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5 – 6 декабря 1941 года –контрнаступление советских войск под Москвой. Освобождение Калуги, Орла, Калинина. Крушение плана молниеносной войны Герма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есна – осень 1942 года – поражения советских войск на юге страны (под Харьковом и в Крыму), обусловленные стратегическими просчётами Ставки, полагавшей, что главный удар германская армия нанесёт снова на Москву. Вермахт вышел к Северному Кавказу и к Волге, поставив СССР на грань военной катастроф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1413000"/>
            <a:ext cx="1816200" cy="1347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451640" y="3573360"/>
            <a:ext cx="1017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2:10:16Z</dcterms:created>
  <dc:creator>Никулин С.И.</dc:creator>
  <dc:description/>
  <dc:language>en-US</dc:language>
  <cp:lastModifiedBy>Admin</cp:lastModifiedBy>
  <dcterms:modified xsi:type="dcterms:W3CDTF">2011-08-28T09:00:18Z</dcterms:modified>
  <cp:revision>58</cp:revision>
  <dc:subject/>
  <dc:title>Слайд 1</dc:title>
</cp:coreProperties>
</file>