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FFE-7332-442B-A6F5-E7577797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2E8-7B12-4B36-9188-7ECFC8D2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659-4FC1-47D9-B54F-66ABD52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C81-FB53-4305-A135-118E5B25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FEA77-5ED4-49FB-BD98-70FFC5D9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454A4-C7BE-42E7-AA39-9C2FAEDA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47241-3AAE-42BE-AC5F-9C88658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7081B-F219-4541-BDC3-02DA04FF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65F45-DF18-41D2-8F3F-90E898D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EC60E-7C2C-41C0-93FC-1688C9A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4C28B-103B-40A9-94F1-E4A016D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537-67F8-4040-A6CE-7CB4449A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3811-0873-4BE3-A9D6-C912B45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356D-F4F4-4033-9D71-631D1A03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1C2E8-1ED1-4B19-8696-51BE7E19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16C6-5AF0-4851-9D4C-436531A8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D1301-7D48-458E-AA2B-6DDA8950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D6BC-24CA-42F9-B17C-D5613D81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3A81-A414-4A33-AA5B-1940B9A2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E3D51-CEA8-4895-A67A-E19D950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03A5-C20D-4D4B-B922-07DD1ADB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46EA5-26EC-4F42-BD35-9EE886D8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9F6-EC5A-44C0-80E2-46E04A69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C7A0-85C3-4D69-8C27-F39E32C7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69E9-DA23-447B-8FA4-6B84073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5AC1-3C6E-443A-8DAC-05174A9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9E07-5977-4ADB-9BF0-2C9482F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4BD3-E07C-4A7A-93B9-56ED4C6B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44C1-6844-4EA8-A135-A75CD20F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6A85-977B-429A-AB6F-C06FEEB8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CF307-2A89-4E53-B216-F8D82ED1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A4C47-E0A7-4D97-B90A-F8A2478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EEAF9-17E6-46AA-B632-C2399A69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917-0D2F-4EA6-9B18-4EDF9FF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3E61A-FE9E-4D9F-8AAF-E6536F0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2273D-AE50-428C-88CE-9C8C573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0CE5A-B180-4A2F-9492-174D75E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24F34-5B64-46BD-BCB0-B3AC1F8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B326C-5113-4048-9A41-BF8E516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273C6-5A2E-42BB-9408-F00FD94B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914C0-1DD7-44A9-94E5-067A77A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96D923-93A0-4502-9291-CBAF991E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4D1EB-7A15-4E62-867A-3FF82434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FD3-5251-4C58-B006-13317765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C47-1C91-441A-9262-3316AE3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8E6-1CD5-4678-8C9F-E9EB5631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C6F-1A91-4058-90FE-8DA08F2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CC2-072B-44BB-B36D-D424A09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bd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A59-FCC6-4F17-BF8D-4A07761052D6}" type="slidenum">
              <a:rPr b="0" lang="ru-RU" sz="1600" spc="-1" strike="noStrike">
                <a:solidFill>
                  <a:srgbClr val="eaebd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0ccb0"/>
          </a:solidFill>
          <a:ln w="38160">
            <a:solidFill>
              <a:srgbClr val="b0ccb0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bd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0960-73AB-4DF6-B843-F13DC110DDD6}" type="slidenum">
              <a:rPr b="0" lang="ru-RU" sz="1600" spc="-1" strike="noStrike">
                <a:solidFill>
                  <a:srgbClr val="eaebd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bd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95E-9CEF-41FC-94DA-41287084DED7}" type="slidenum">
              <a:rPr b="0" lang="ru-RU" sz="1600" spc="-1" strike="noStrike">
                <a:solidFill>
                  <a:srgbClr val="eaebd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0958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9bb39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B11-340E-40EA-9C3B-CCC11FC4A268}" type="slidenum">
              <a:rPr b="0" lang="ru-RU" sz="1600" spc="-1" strike="noStrike">
                <a:solidFill>
                  <a:srgbClr val="eaebd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bd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bde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images.yandex.ru/yandsearch?ed=1&amp;rpt=simage&amp;text=&#1086;&#1092;&#1086;&#1088;&#1084;&#1083;&#1077;&#1085;&#1080;&#1077;%20&#1076;&#1086;&#1082;&#1091;&#1084;&#1077;&#1085;&#1090;&#1072;%20&#1043;&#1077;&#1086;&#1088;&#1075;&#1080;&#1077;&#1074;&#1089;&#1082;&#1086;&#1081;%20&#1083;&#1077;&#1085;&#1090;&#1086;&#1081;&amp;img_url=www.misis.ru/Portals/0/2010Press/Big_pict/soviet_heroes_10718392.jpg&amp;spsite=fake-047-7175171.ru&amp;p=152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2968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Дробот Але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ученица 4 класс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ОУ «СОШ им. В.Г. Шухова»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г. Грайворона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Белгородской обла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75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Администратор\Мои документы\Мои рисунки\Изображение 051.jpg"/>
          <p:cNvPicPr/>
          <p:nvPr/>
        </p:nvPicPr>
        <p:blipFill>
          <a:blip r:embed="rId1"/>
          <a:stretch/>
        </p:blipFill>
        <p:spPr>
          <a:xfrm>
            <a:off x="6215040" y="1928880"/>
            <a:ext cx="2598840" cy="4027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Documents and Settings\Администратор\Мои документы\Мои рисунки\Изображение 052.jpg"/>
          <p:cNvPicPr/>
          <p:nvPr/>
        </p:nvPicPr>
        <p:blipFill>
          <a:blip r:embed="rId2"/>
          <a:stretch/>
        </p:blipFill>
        <p:spPr>
          <a:xfrm>
            <a:off x="3214800" y="2643120"/>
            <a:ext cx="2928960" cy="2268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Администратор\Мои документы\Мои рисунки\Изображение 053.jpg"/>
          <p:cNvPicPr/>
          <p:nvPr/>
        </p:nvPicPr>
        <p:blipFill>
          <a:blip r:embed="rId3"/>
          <a:stretch/>
        </p:blipFill>
        <p:spPr>
          <a:xfrm>
            <a:off x="428760" y="1857240"/>
            <a:ext cx="271440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09160" cy="1858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Documents and Settings\Администратор\Мои документы\Мои рисунки\Изображение.jpg"/>
          <p:cNvPicPr/>
          <p:nvPr/>
        </p:nvPicPr>
        <p:blipFill>
          <a:blip r:embed="rId2"/>
          <a:stretch/>
        </p:blipFill>
        <p:spPr>
          <a:xfrm>
            <a:off x="3500280" y="307188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Администратор\Мои документы\Мои рисунки\Изображение 055.jpg"/>
          <p:cNvPicPr/>
          <p:nvPr/>
        </p:nvPicPr>
        <p:blipFill>
          <a:blip r:embed="rId3"/>
          <a:stretch/>
        </p:blipFill>
        <p:spPr>
          <a:xfrm>
            <a:off x="285840" y="2000160"/>
            <a:ext cx="3179520" cy="2162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Администратор\Мои документы\Мои рисунки\Изображение 056.jpg"/>
          <p:cNvPicPr/>
          <p:nvPr/>
        </p:nvPicPr>
        <p:blipFill>
          <a:blip r:embed="rId4"/>
          <a:stretch/>
        </p:blipFill>
        <p:spPr>
          <a:xfrm>
            <a:off x="6072120" y="1857240"/>
            <a:ext cx="2643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467920" cy="148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Администратор\Мои документы\Мои рисунки\фото.bmp"/>
          <p:cNvPicPr/>
          <p:nvPr/>
        </p:nvPicPr>
        <p:blipFill>
          <a:blip r:embed="rId2"/>
          <a:stretch/>
        </p:blipFill>
        <p:spPr>
          <a:xfrm>
            <a:off x="857160" y="1571760"/>
            <a:ext cx="76438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394840" cy="46576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3" descr="http://im7-tub.yandex.net/i?id=105601517-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00" y="5357880"/>
            <a:ext cx="73580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2139840"/>
            <a:ext cx="82425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3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4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428840"/>
            <a:ext cx="40435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Здесь я выгляжу счастливой и веселой. Одно слово – мир смотрит на нас с этой  фотографии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Я никогда не думала, что наше мирное время завоевано высокой цено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C:\Documents and Settings\Администратор\Мои документы\Мои рисунки\Изображение 047.jpg"/>
          <p:cNvPicPr/>
          <p:nvPr/>
        </p:nvPicPr>
        <p:blipFill>
          <a:blip r:embed="rId2"/>
          <a:stretch/>
        </p:blipFill>
        <p:spPr>
          <a:xfrm>
            <a:off x="4500720" y="1571760"/>
            <a:ext cx="42559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8435880" cy="1231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1428840"/>
            <a:ext cx="4257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В далекой Великой Отечественной войне участвовал  мой прадедушка Синица Михаил Михайлович. А Дученко Степан Демьянович служил на границе 25 лет. За заслуги перед страной и их мужество  они награждены орденами и медалями. Также очерк о них вошел в иллюстрированный сборник «Доблесть и слава грайворонцев»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C:\Documents and Settings\Администратор\Мои документы\Мои рисунки\Изображение 057.jpg"/>
          <p:cNvPicPr/>
          <p:nvPr/>
        </p:nvPicPr>
        <p:blipFill>
          <a:blip r:embed="rId2"/>
          <a:stretch/>
        </p:blipFill>
        <p:spPr>
          <a:xfrm>
            <a:off x="5072040" y="1500120"/>
            <a:ext cx="33670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33440" y="133200"/>
            <a:ext cx="8369280" cy="1244880"/>
          </a:xfrm>
          <a:prstGeom prst="rect">
            <a:avLst/>
          </a:prstGeom>
          <a:ln w="0">
            <a:noFill/>
          </a:ln>
        </p:spPr>
      </p:pic>
      <p:grpSp>
        <p:nvGrpSpPr>
          <p:cNvPr id="179" name="Содержимое 2"/>
          <p:cNvGrpSpPr/>
          <p:nvPr/>
        </p:nvGrpSpPr>
        <p:grpSpPr>
          <a:xfrm>
            <a:off x="347760" y="1305000"/>
            <a:ext cx="4462200" cy="4900680"/>
            <a:chOff x="347760" y="1305000"/>
            <a:chExt cx="4462200" cy="4900680"/>
          </a:xfrm>
        </p:grpSpPr>
        <p:pic>
          <p:nvPicPr>
            <p:cNvPr id="18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47760" y="1305000"/>
              <a:ext cx="4462200" cy="49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7200" y="1523880"/>
              <a:ext cx="40593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Дедушка Миша родился в крестьянской семье. У  него было пятеро сестер. Жили очень бедно и голодно.  Он ушел служить в армию и остался на сверхсрочную службу. Началась война. Дедушка служил всю войну в артиллерийских войсках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2" name="Picture 5" descr="C:\Documents and Settings\Администратор\Мои документы\Мои рисунки\Изображение 057.jpg"/>
          <p:cNvPicPr/>
          <p:nvPr/>
        </p:nvPicPr>
        <p:blipFill>
          <a:blip r:embed="rId3"/>
          <a:stretch/>
        </p:blipFill>
        <p:spPr>
          <a:xfrm>
            <a:off x="4714920" y="1608120"/>
            <a:ext cx="3786120" cy="4464000"/>
          </a:xfrm>
          <a:prstGeom prst="rect">
            <a:avLst/>
          </a:prstGeom>
          <a:ln w="9360">
            <a:solidFill>
              <a:srgbClr val="1f0a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Заголовок 4" descr=""/>
          <p:cNvPicPr/>
          <p:nvPr/>
        </p:nvPicPr>
        <p:blipFill>
          <a:blip r:embed="rId1"/>
          <a:stretch/>
        </p:blipFill>
        <p:spPr>
          <a:xfrm>
            <a:off x="414360" y="146160"/>
            <a:ext cx="8388360" cy="150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714240" y="1673280"/>
            <a:ext cx="3571920" cy="461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64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500720" y="1928880"/>
            <a:ext cx="4071960" cy="3886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71680" y="1857240"/>
            <a:ext cx="3571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00360" y="1071720"/>
            <a:ext cx="4059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 боях на границе дедушка Степан был ранен, под ним была убита лошадь. За проявленное мужество в боях, был награжден орденом Красной Звезды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388296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4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44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Администратор\Мои документы\Мои рисунки\Изображение 054.jpg"/>
          <p:cNvPicPr/>
          <p:nvPr/>
        </p:nvPicPr>
        <p:blipFill>
          <a:blip r:embed="rId2"/>
          <a:stretch/>
        </p:blipFill>
        <p:spPr>
          <a:xfrm>
            <a:off x="1143000" y="1857240"/>
            <a:ext cx="69706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4" descr=""/>
          <p:cNvPicPr/>
          <p:nvPr/>
        </p:nvPicPr>
        <p:blipFill>
          <a:blip r:embed="rId1"/>
          <a:stretch/>
        </p:blipFill>
        <p:spPr>
          <a:xfrm>
            <a:off x="384120" y="146160"/>
            <a:ext cx="8491680" cy="1785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Администратор\Мои документы\Мои рисунки\Изображение 048.jpg"/>
          <p:cNvPicPr/>
          <p:nvPr/>
        </p:nvPicPr>
        <p:blipFill>
          <a:blip r:embed="rId2"/>
          <a:stretch/>
        </p:blipFill>
        <p:spPr>
          <a:xfrm>
            <a:off x="3143160" y="2000160"/>
            <a:ext cx="2814840" cy="400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Documents and Settings\Администратор\Мои документы\Мои рисунки\Изображение 049.jpg"/>
          <p:cNvPicPr/>
          <p:nvPr/>
        </p:nvPicPr>
        <p:blipFill>
          <a:blip r:embed="rId3"/>
          <a:stretch/>
        </p:blipFill>
        <p:spPr>
          <a:xfrm>
            <a:off x="6072120" y="2357280"/>
            <a:ext cx="2730600" cy="4025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Documents and Settings\Администратор\Мои документы\Мои рисунки\Изображение 050.jpg"/>
          <p:cNvPicPr/>
          <p:nvPr/>
        </p:nvPicPr>
        <p:blipFill>
          <a:blip r:embed="rId4"/>
          <a:stretch/>
        </p:blipFill>
        <p:spPr>
          <a:xfrm>
            <a:off x="357120" y="2428920"/>
            <a:ext cx="26431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8:16:10Z</dcterms:created>
  <dc:creator>User</dc:creator>
  <dc:description/>
  <dc:language>en-US</dc:language>
  <cp:lastModifiedBy>Teacher</cp:lastModifiedBy>
  <dcterms:modified xsi:type="dcterms:W3CDTF">2011-09-12T08:33:08Z</dcterms:modified>
  <cp:revision>26</cp:revision>
  <dc:subject/>
  <dc:title>Война в истории моей семьи</dc:title>
</cp:coreProperties>
</file>