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9.jpeg" ContentType="image/jpeg"/>
  <Override PartName="/ppt/media/image20.png" ContentType="image/png"/>
  <Override PartName="/ppt/media/image36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6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BF7-A868-468F-91C1-9651EF29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E55-FAAB-468E-87F5-6DCFA128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32BDF-5EB4-4DEF-998B-2F6F062D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38B5E-4B7C-430F-960E-76C9B056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2C361-8660-470F-A816-984405E0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A9D4A-86FE-4ED0-8924-EA8752B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3F09A-9B4C-4367-9A8F-5DEFB2DB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246E4-8B1C-40AF-B6A7-C2F12CD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CE879-6338-4C1D-B3DF-E97FDD09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983F3-565C-4493-8338-BDFAD33E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E987E-FC3E-436C-8FEC-CFBDE324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A5A48-F2F6-42B9-8D86-09D4A0F0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117-820F-41BD-9BBD-A08B436A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3AF3A-EFEE-492B-AF63-02DD8458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67767-A01F-449D-9199-FB11D46C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4AF45-BC5D-4A2B-B6BD-583026C9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3D7FD-8ADE-402F-B480-0ED2884D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F7AAA-08DE-4F73-8D77-854A679F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443E3-796C-4794-B21B-875DB385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85583-4ACB-497E-B501-23CEEE0C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CEB95-BBB3-454A-940F-DB6F800F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DD360-FF85-4693-B392-E31BBABD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7631B-666B-49F2-8F3F-DCB33646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634-18F4-4DF5-8A10-4E923DBB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7D63F-978E-4356-9D94-E48FBB7F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C0BFB-D884-41CE-BA79-C275CAD4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F29C4-9DF4-4233-9CA8-534247B0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D975A-98EB-4CA8-A3C8-07501579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A837F-66E8-4532-AC89-81680E11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26ED2-6300-465B-925D-F2C5992B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1C391-BE62-442B-BE59-046CD6CB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82B74-70AD-45E3-BE1B-F5DF809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93492-2BD6-46E6-B831-7DD6B6F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D0051-D99E-45E9-9531-29AE9C72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3E82-DC33-49A4-9DDA-E17C235A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77D1F-4DDE-4CDE-8B71-4085223C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C4D2D-8CC0-4EAC-8D4F-46927216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3E455-1D77-4956-B9DC-092D9808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29B87-C4A4-4C4D-A5FD-100C43FD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A85B7-AE00-4370-A92A-443F9BED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781CF-0560-455F-A379-4852F1C1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175D1-4132-4DA7-B2E4-C373CCB1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D1436-069C-4F7C-8DE9-DCCE7E9D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69217-5551-4884-A726-FEFD4E5E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C0D72-1C0D-42EA-B13D-B3C762A9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494C-EECC-4989-854B-CA9C53C6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2D4BE-5DDC-4A99-8F5C-6C44502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92F17-843C-4B56-8054-45B81DAC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8FDD9-93B8-436C-B615-26900EBF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E7B12-D84B-4E54-8B71-DD750CD9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9414D-5412-4849-B4E5-1815884E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4C51-05A5-4ACC-9739-081DF3A6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9295-16EB-4858-BA99-6F2A7136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F07E-8045-49E0-9E81-DEA3CC92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4FF7-EA79-45D7-92E3-0F3889CD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CADD-03F1-4621-B536-C94C08ED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405-1F62-44AE-BD71-79FF89A4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5482-E5E9-455B-9394-FDDC86C6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5B02-03BD-485E-AF09-30592E2C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AFAA-C45E-49DF-AF53-F65C6C2F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492B-4901-43BC-B989-BD8CF799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6E95-5BE2-425F-9A0F-F7E350E6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F3A0-FF7D-4FEB-95D9-365EA764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DE0E-906A-472A-8BF9-B8C7B6EB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3F10-F47A-4897-82CA-8DCCC9F8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3036-AE4A-4450-BAA1-A4C80F41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4A7C-9D19-4F85-A36C-E9DEC73E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0F3-F126-4055-AECD-140602BE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A9F8-956A-4120-940A-48C1F47E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A73B-F43E-48C2-9E03-2153D31D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D852-DF74-425E-92DD-99105C39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6554-1CD9-415E-9690-6C145A36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4F67-7590-4F7E-88C2-D6CEC637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005FB-74CF-481F-B4FB-EDA33526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0E4F-72F8-4D5E-A710-63978300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62EA3-45A6-4759-BD8E-425500AE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51B0-64D9-4637-808C-4D6A48CD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3F93-2974-4B60-A5EE-66D97642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90F-7310-4A78-B48F-222B9264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82009-1C55-4F4D-B6EC-5AE8AB08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764A-380F-4DFD-9393-2710E84E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0A6B-AD5B-46FF-A292-F1B71D36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B4526-8365-4417-A87D-2950D7B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2C15-55F3-41E6-913F-FA9F3611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85B7-765B-4875-AF04-23CC0D5D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A4D6-E494-4A82-9BBB-D3DE2EDD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8ABE1-D968-465D-9E39-A6622B18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8CAEB-712B-40CD-8C1E-D3E2F2A1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A7A62-FEF9-48E7-A384-016C1C61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2DE-E7E7-4732-BDB1-A04322E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0B8F-E174-4574-A5DB-76019314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84253-7A36-480C-8746-6FBC8987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BC15E-AB65-4DCB-930A-B7972C42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1969-1452-48FC-98AF-47B1F28A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C0E27-54F4-4D88-B861-CC2C0D63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29338-E307-4B74-8A3C-52299CBF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D71AF-BBAA-42CB-98C7-22F1C07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3CBCD-974F-42BF-9DF8-D7784175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0C0F6-3765-459C-889A-25F546E7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22712-D030-4D65-ACBE-7CDB2B10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8E9-B854-4F2A-8061-FE4A91B6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8E7A4-94E8-424E-B715-ECEAA4B9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E29F3-BD8B-407F-99ED-A938E126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60BAF-1AE1-4864-B810-9F87011D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39104-9D3D-4123-A632-4A85A593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10546-5256-4237-B451-31C721AA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625A4-D983-4462-9BB7-18B827CE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63DE-C7CD-4634-9CAA-3E56F356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7FE74-5C89-43EC-8205-7A239873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7487B-DD65-486E-A42A-03FE2F8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DC2E1-8C31-4375-8CF8-61748877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E0E-D377-4391-BBF7-10D2E9D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30C5A-C17C-4676-93F4-F8CFD06B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E2A3B-1862-4D73-A231-2B838EA4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D8AC-FB0C-43C8-940D-9AFEADEE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BDFA2-1F19-4162-A369-A5E1C671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2E59C-F03A-48C4-9C44-2EF52B6C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4BE97-AA6B-46A8-B769-58615787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EC4F9-B949-47D8-97C4-2C6FBC62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FAE9-2BDD-4C65-B1F7-7F418B77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CB0DE-6B7B-405D-A1FF-14B3F083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3D2C-70D2-435D-B2B4-1699BAD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091-06B1-4F94-A2A4-86B189D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5D3A5-8568-4A8C-8EDA-6E74BA4D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1A2C4-C670-4D41-B923-DBF2EC1A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88B44-CCE9-4A8A-AF93-4C4C7F08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D10E2-01FF-417D-951F-7EB9B9ED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0733-7D7F-41A2-9689-F6E9CAC5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EF968-FCC7-4578-AAE3-6318BB94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C68DC-16E4-4175-810D-1AE25E9F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10A67-6D1D-4E2C-8307-D5D56887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98635-C8C8-4F7F-B452-1E26B60A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9E1E7-7840-439C-8AA9-C2CEDBA3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C4C-4A1A-4164-A92B-7AADE7B9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57B68-0CFC-490C-887D-74BADFA4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312E5-840C-466A-98D3-D0614EF8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182E1-8836-4F97-9234-81A982D5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B128A-7FBB-49A1-B1CF-0432AA4F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5BD6D-77FC-4562-A256-B500DFB2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AB057-FCF5-46A1-88FE-9DDE070F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72FB2-171F-489C-BE16-A661C82A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CBB84-2D4D-4CD6-BB2F-56F5040F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EE009-876F-408E-BE77-CECF63FC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3B58C-1BCE-4838-9623-39D619D7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D886-03E8-47D1-9559-5D9177A11F6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6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7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7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B96E-77A0-4D11-A734-7C9C02F0256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5119-7EC6-467A-92C5-95FDEDDF08A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CF94-AFDB-4558-BBC7-96215E966DC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E89B-0297-48FD-A6B1-52936F568D7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C6E5-5650-44CF-87FA-DDCA6E0D949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A28B-0D78-401B-B9B9-4AC0B569070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B2AC-F27C-47BB-9E46-5019D177BEC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17AC-D9A9-4689-B705-608D9649052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0B84-940B-48B8-B43B-B3FDD3D55B9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760E-612A-4208-BADF-7C1A156FDBA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922D-9557-4FE5-B186-E78322ED43F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podvignaroda.mil.ru/" TargetMode="External"/><Relationship Id="rId3" Type="http://schemas.openxmlformats.org/officeDocument/2006/relationships/hyperlink" Target="http://podvignaroda.mil.ru/" TargetMode="External"/><Relationship Id="rId4" Type="http://schemas.openxmlformats.org/officeDocument/2006/relationships/hyperlink" Target="http://podvignaroda.mil.ru/" TargetMode="External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5" descr="Изображение 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WordArt 4"/>
          <p:cNvSpPr txBox="1"/>
          <p:nvPr/>
        </p:nvSpPr>
        <p:spPr>
          <a:xfrm>
            <a:off x="587520" y="961920"/>
            <a:ext cx="7565760" cy="31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3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 край – страдалец…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34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3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 край - герой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34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0" name="Прямоугольник 5" descr=""/>
          <p:cNvPicPr/>
          <p:nvPr/>
        </p:nvPicPr>
        <p:blipFill>
          <a:blip r:embed="rId2"/>
          <a:stretch/>
        </p:blipFill>
        <p:spPr>
          <a:xfrm>
            <a:off x="993600" y="262080"/>
            <a:ext cx="8047080" cy="1049040"/>
          </a:xfrm>
          <a:prstGeom prst="rect">
            <a:avLst/>
          </a:prstGeom>
          <a:ln w="0">
            <a:noFill/>
          </a:ln>
        </p:spPr>
      </p:pic>
      <p:sp>
        <p:nvSpPr>
          <p:cNvPr id="621" name="TextBox 6"/>
          <p:cNvSpPr/>
          <p:nvPr/>
        </p:nvSpPr>
        <p:spPr>
          <a:xfrm>
            <a:off x="4572000" y="3809880"/>
            <a:ext cx="4572000" cy="234972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льтимедийная презентация подготовле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дентом 3 курса факультета С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ческого институ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. Н. Н. Поликарп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ровым Максим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преподаватель Колосова Ю. 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5"/>
          <p:cNvSpPr/>
          <p:nvPr/>
        </p:nvSpPr>
        <p:spPr>
          <a:xfrm>
            <a:off x="609480" y="6094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время освобождения населенных пунктов края погибл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 ты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оветских бойцов и командиров. Они захоронены в 56 братских могил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6" descr="сканирование0018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755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сканирование0018"/>
          <p:cNvPicPr/>
          <p:nvPr/>
        </p:nvPicPr>
        <p:blipFill>
          <a:blip r:embed="rId1"/>
          <a:stretch/>
        </p:blipFill>
        <p:spPr>
          <a:xfrm>
            <a:off x="3505320" y="2736720"/>
            <a:ext cx="5638680" cy="412128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5"/>
          <p:cNvSpPr/>
          <p:nvPr/>
        </p:nvSpPr>
        <p:spPr>
          <a:xfrm>
            <a:off x="380880" y="38088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ава вам, храбры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ава бесстрашны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чную славу поет вам народ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рть сокрушивш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лестно павш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мять о вас никогда не умр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152280" y="5122800"/>
            <a:ext cx="3124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мятный знак погибшим односельчанам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. Верхососен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7" descr="сканирование0018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8"/>
          <p:cNvSpPr/>
          <p:nvPr/>
        </p:nvSpPr>
        <p:spPr>
          <a:xfrm>
            <a:off x="533520" y="2514600"/>
            <a:ext cx="312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мориал погибшим воинам 16-й Литовской дивизии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. Алексеев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сканирование0018"/>
          <p:cNvPicPr/>
          <p:nvPr/>
        </p:nvPicPr>
        <p:blipFill>
          <a:blip r:embed="rId1"/>
          <a:stretch/>
        </p:blipFill>
        <p:spPr>
          <a:xfrm>
            <a:off x="533520" y="2133720"/>
            <a:ext cx="6095880" cy="417960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5"/>
          <p:cNvSpPr/>
          <p:nvPr/>
        </p:nvSpPr>
        <p:spPr>
          <a:xfrm>
            <a:off x="2362320" y="2286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мотрит на сынов своих Росс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будто лишь вчера закончен б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ходят победители сед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беда остается моло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6934320" y="567072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мориал погибшим в с. Успенс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4" descr="SL741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5"/>
          <p:cNvSpPr/>
          <p:nvPr/>
        </p:nvSpPr>
        <p:spPr>
          <a:xfrm>
            <a:off x="0" y="53341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итинг у Братской могилы в с. Фёдор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WordArt 4"/>
          <p:cNvSpPr txBox="1"/>
          <p:nvPr/>
        </p:nvSpPr>
        <p:spPr>
          <a:xfrm>
            <a:off x="914400" y="380880"/>
            <a:ext cx="731520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рои Советского Союза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7" name="Picture 5" descr="Медаль “Золотая Звезда” Герой Советского Союза"/>
          <p:cNvPicPr/>
          <p:nvPr/>
        </p:nvPicPr>
        <p:blipFill>
          <a:blip r:embed="rId1"/>
          <a:stretch/>
        </p:blipFill>
        <p:spPr>
          <a:xfrm>
            <a:off x="3505320" y="1600200"/>
            <a:ext cx="1942920" cy="3733920"/>
          </a:xfrm>
          <a:prstGeom prst="rect">
            <a:avLst/>
          </a:prstGeom>
          <a:ln w="0">
            <a:noFill/>
          </a:ln>
        </p:spPr>
      </p:pic>
      <p:sp>
        <p:nvSpPr>
          <p:cNvPr id="648" name="WordArt 6"/>
          <p:cNvSpPr txBox="1"/>
          <p:nvPr/>
        </p:nvSpPr>
        <p:spPr>
          <a:xfrm>
            <a:off x="1066680" y="5486400"/>
            <a:ext cx="73152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женцы Покровского райо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95280" cy="156024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5"/>
          <p:cNvSpPr/>
          <p:nvPr/>
        </p:nvSpPr>
        <p:spPr>
          <a:xfrm>
            <a:off x="152280" y="2057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днев С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1" name="Picture 6" descr=""/>
          <p:cNvPicPr/>
          <p:nvPr/>
        </p:nvPicPr>
        <p:blipFill>
          <a:blip r:embed="rId2"/>
          <a:stretch/>
        </p:blipFill>
        <p:spPr>
          <a:xfrm>
            <a:off x="2362320" y="304920"/>
            <a:ext cx="1295280" cy="156204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7"/>
          <p:cNvSpPr/>
          <p:nvPr/>
        </p:nvSpPr>
        <p:spPr>
          <a:xfrm>
            <a:off x="2209680" y="2057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аков В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Picture 8" descr=""/>
          <p:cNvPicPr/>
          <p:nvPr/>
        </p:nvPicPr>
        <p:blipFill>
          <a:blip r:embed="rId3"/>
          <a:stretch/>
        </p:blipFill>
        <p:spPr>
          <a:xfrm>
            <a:off x="4495680" y="304920"/>
            <a:ext cx="1148040" cy="145548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9"/>
          <p:cNvSpPr/>
          <p:nvPr/>
        </p:nvSpPr>
        <p:spPr>
          <a:xfrm>
            <a:off x="4343400" y="2057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ников А. 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Picture 10" descr=""/>
          <p:cNvPicPr/>
          <p:nvPr/>
        </p:nvPicPr>
        <p:blipFill>
          <a:blip r:embed="rId4"/>
          <a:stretch/>
        </p:blipFill>
        <p:spPr>
          <a:xfrm>
            <a:off x="6629400" y="304920"/>
            <a:ext cx="1330200" cy="1523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1"/>
          <p:cNvSpPr/>
          <p:nvPr/>
        </p:nvSpPr>
        <p:spPr>
          <a:xfrm>
            <a:off x="6477120" y="2057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ыбкин В. 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Picture 12" descr=""/>
          <p:cNvPicPr/>
          <p:nvPr/>
        </p:nvPicPr>
        <p:blipFill>
          <a:blip r:embed="rId5"/>
          <a:stretch/>
        </p:blipFill>
        <p:spPr>
          <a:xfrm>
            <a:off x="457200" y="2743200"/>
            <a:ext cx="1397160" cy="152892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13"/>
          <p:cNvSpPr/>
          <p:nvPr/>
        </p:nvSpPr>
        <p:spPr>
          <a:xfrm>
            <a:off x="152280" y="4419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бинин И.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Picture 14" descr=""/>
          <p:cNvPicPr/>
          <p:nvPr/>
        </p:nvPicPr>
        <p:blipFill>
          <a:blip r:embed="rId6"/>
          <a:stretch/>
        </p:blipFill>
        <p:spPr>
          <a:xfrm>
            <a:off x="2362320" y="2666880"/>
            <a:ext cx="1447560" cy="1681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5"/>
          <p:cNvSpPr/>
          <p:nvPr/>
        </p:nvSpPr>
        <p:spPr>
          <a:xfrm>
            <a:off x="228600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пелкин И. 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7"/>
          <a:stretch/>
        </p:blipFill>
        <p:spPr>
          <a:xfrm>
            <a:off x="4343400" y="26668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"/>
          <p:cNvPicPr/>
          <p:nvPr/>
        </p:nvPicPr>
        <p:blipFill>
          <a:blip r:embed="rId8"/>
          <a:stretch/>
        </p:blipFill>
        <p:spPr>
          <a:xfrm>
            <a:off x="6553080" y="2743200"/>
            <a:ext cx="1549440" cy="167652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5"/>
          <p:cNvSpPr/>
          <p:nvPr/>
        </p:nvSpPr>
        <p:spPr>
          <a:xfrm>
            <a:off x="4273560" y="44956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чиков М. 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6562080" y="44956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шин И. 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Picture 8" descr=""/>
          <p:cNvPicPr/>
          <p:nvPr/>
        </p:nvPicPr>
        <p:blipFill>
          <a:blip r:embed="rId9"/>
          <a:stretch/>
        </p:blipFill>
        <p:spPr>
          <a:xfrm>
            <a:off x="1600200" y="487692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666" name="TextBox 18"/>
          <p:cNvSpPr/>
          <p:nvPr/>
        </p:nvSpPr>
        <p:spPr>
          <a:xfrm>
            <a:off x="1605240" y="6488280"/>
            <a:ext cx="160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инёв М. 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10" descr=""/>
          <p:cNvPicPr/>
          <p:nvPr/>
        </p:nvPicPr>
        <p:blipFill>
          <a:blip r:embed="rId10"/>
          <a:stretch/>
        </p:blipFill>
        <p:spPr>
          <a:xfrm>
            <a:off x="3581280" y="4800600"/>
            <a:ext cx="1397160" cy="1600200"/>
          </a:xfrm>
          <a:prstGeom prst="rect">
            <a:avLst/>
          </a:prstGeom>
          <a:ln w="0">
            <a:noFill/>
          </a:ln>
        </p:spPr>
      </p:pic>
      <p:sp>
        <p:nvSpPr>
          <p:cNvPr id="668" name="TextBox 20"/>
          <p:cNvSpPr/>
          <p:nvPr/>
        </p:nvSpPr>
        <p:spPr>
          <a:xfrm>
            <a:off x="3438720" y="648828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ферьев Н.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Picture 12" descr=""/>
          <p:cNvPicPr/>
          <p:nvPr/>
        </p:nvPicPr>
        <p:blipFill>
          <a:blip r:embed="rId11"/>
          <a:stretch/>
        </p:blipFill>
        <p:spPr>
          <a:xfrm>
            <a:off x="5943600" y="48769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70" name="TextBox 22"/>
          <p:cNvSpPr/>
          <p:nvPr/>
        </p:nvSpPr>
        <p:spPr>
          <a:xfrm>
            <a:off x="5722200" y="648828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ынкин В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Прямоугольник 1" descr=""/>
          <p:cNvPicPr/>
          <p:nvPr/>
        </p:nvPicPr>
        <p:blipFill>
          <a:blip r:embed="rId1"/>
          <a:stretch/>
        </p:blipFill>
        <p:spPr>
          <a:xfrm>
            <a:off x="914400" y="1042920"/>
            <a:ext cx="7467480" cy="452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WordArt 4"/>
          <p:cNvSpPr txBox="1"/>
          <p:nvPr/>
        </p:nvSpPr>
        <p:spPr>
          <a:xfrm>
            <a:off x="1143000" y="304920"/>
            <a:ext cx="7162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Участник Курской битвы,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танкист, Герой Советского Союза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Умников Андрей Иванович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673" name="Picture 4" descr="SL740752"/>
          <p:cNvPicPr/>
          <p:nvPr/>
        </p:nvPicPr>
        <p:blipFill>
          <a:blip r:embed="rId7"/>
          <a:stretch/>
        </p:blipFill>
        <p:spPr>
          <a:xfrm>
            <a:off x="3048120" y="3200400"/>
            <a:ext cx="3225600" cy="2419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457200" y="0"/>
            <a:ext cx="80773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дрей Иванович родился в 1916г. в д. Веселовка Покровского района. С детства он старался быть победителем: хорошо учился и успешно закончил Федоровскую семилетнюю школу. До армии работал в колхозником в местном колхоз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3" descr="сканирование0056"/>
          <p:cNvPicPr/>
          <p:nvPr/>
        </p:nvPicPr>
        <p:blipFill>
          <a:blip r:embed="rId1"/>
          <a:stretch/>
        </p:blipFill>
        <p:spPr>
          <a:xfrm>
            <a:off x="2362320" y="2743200"/>
            <a:ext cx="4484520" cy="2819520"/>
          </a:xfrm>
          <a:prstGeom prst="rect">
            <a:avLst/>
          </a:prstGeom>
          <a:ln w="0">
            <a:noFill/>
          </a:ln>
        </p:spPr>
      </p:pic>
      <p:sp>
        <p:nvSpPr>
          <p:cNvPr id="676" name="TextBox 3"/>
          <p:cNvSpPr/>
          <p:nvPr/>
        </p:nvSpPr>
        <p:spPr>
          <a:xfrm>
            <a:off x="2057400" y="5715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отография матери Андрея Ивановича из семейного альбома Умник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4"/>
          <p:cNvSpPr/>
          <p:nvPr/>
        </p:nvSpPr>
        <p:spPr>
          <a:xfrm>
            <a:off x="304920" y="457200"/>
            <a:ext cx="837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6ecff"/>
                </a:solidFill>
                <a:uFillTx/>
                <a:latin typeface="Arial"/>
              </a:rPr>
              <a:t>Цель работы</a:t>
            </a:r>
            <a:r>
              <a:rPr b="1" lang="ru-RU" sz="2400" spc="-1" strike="noStrike">
                <a:solidFill>
                  <a:srgbClr val="d6ec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d6ecff"/>
                </a:solidFill>
                <a:latin typeface="Arial"/>
              </a:rPr>
              <a:t> для предотвращения искажения истории и сохранения памяти о событиях Великой Отечественной войны обобщить информацию о памятных местах на территории моего родного Покровского края Орловской области и показать вклад моих земляков в общее дело – победу СССР над нацистской Германией и её союзниками во </a:t>
            </a:r>
            <a:r>
              <a:rPr b="1" lang="en-US" sz="2000" spc="-1" strike="noStrike">
                <a:solidFill>
                  <a:srgbClr val="d6ecff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d6ecff"/>
                </a:solidFill>
                <a:latin typeface="Arial"/>
              </a:rPr>
              <a:t>мировой войне.</a:t>
            </a:r>
            <a:br>
              <a:rPr sz="2000"/>
            </a:br>
            <a:r>
              <a:rPr b="1" lang="ru-RU" sz="2400" spc="-1" strike="noStrike" u="sng">
                <a:solidFill>
                  <a:srgbClr val="d6ecff"/>
                </a:solidFill>
                <a:uFillTx/>
                <a:latin typeface="Arial"/>
              </a:rPr>
              <a:t>Задачи: </a:t>
            </a:r>
            <a:br>
              <a:rPr sz="2400"/>
            </a:br>
            <a:r>
              <a:rPr b="0" lang="ru-RU" sz="2000" spc="-1" strike="noStrike">
                <a:solidFill>
                  <a:srgbClr val="d6ecff"/>
                </a:solidFill>
                <a:latin typeface="Arial"/>
              </a:rPr>
              <a:t>1) на основе изучения краеведческих материалов и фотографий  охарактеризовать памятные места Покровского района, увековечить имена моих земляков – Героев Советского Союза; </a:t>
            </a:r>
            <a:br>
              <a:rPr sz="2000"/>
            </a:br>
            <a:r>
              <a:rPr b="0" lang="ru-RU" sz="2000" spc="-1" strike="noStrike">
                <a:solidFill>
                  <a:srgbClr val="d6ecff"/>
                </a:solidFill>
                <a:latin typeface="Arial"/>
              </a:rPr>
              <a:t>2) используя материалы  школьного музея, архива проследить жизненный путь Героя Советского союза, уроженца Покровского края,  Андрея Ивановича Умник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380880" y="228600"/>
            <a:ext cx="8305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39г. был призван на службу в ряды Советской Армии. Прошел славный путь от курсанта Харьковского бронетанкового училища до заместителя командира батальона гвардейского танкового пол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первого и до и последнего дня участвовал в боях Великой Отечественной. Был храбрым, смелым воином. Его девиз -«Отстоять край родной от фашистского ига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еликой Отечественной войне с 1942г. - заместитель командира роты на Юго-Западном фрон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Picture 3" descr="сканирование0052"/>
          <p:cNvPicPr/>
          <p:nvPr/>
        </p:nvPicPr>
        <p:blipFill>
          <a:blip r:embed="rId1"/>
          <a:stretch/>
        </p:blipFill>
        <p:spPr>
          <a:xfrm>
            <a:off x="1981080" y="3581280"/>
            <a:ext cx="4481640" cy="2990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5" descr="сканирование0057"/>
          <p:cNvPicPr/>
          <p:nvPr/>
        </p:nvPicPr>
        <p:blipFill>
          <a:blip r:embed="rId1"/>
          <a:stretch/>
        </p:blipFill>
        <p:spPr>
          <a:xfrm>
            <a:off x="3505320" y="91440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"/>
          <p:cNvSpPr/>
          <p:nvPr/>
        </p:nvSpPr>
        <p:spPr>
          <a:xfrm>
            <a:off x="380880" y="152280"/>
            <a:ext cx="845820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т какой случай произошел с капитаном Умниковым и его товарищем в 1943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мников прибыл на фронт. Его назначили командиром взвода тяжелых танков. Андрей Иванович получил приказ в составе трёх танков обойти по сильно пересечённой местности оборону противника и произвести разведку в тылу врага. Вечером три экипажа приступили к выполнению боевого задания .... Миновав перелесок, танки вышли на шоссе. Остановились. Неподалёку слышался нарастающий гул моторов. Слева и справа крутые откосы ­свернуть с шоссе было нельзя, отступать тем более. Танкисты решили ждать. В направлении следования фашисты освещали путь ракетами. Они не ожидали, что советские танки могут оказаться в тылу их обороны. И когда увидели впереди танки, то, очевидно, приняли их за свои .... В нескольких десятках метров вражеская колонна замедлила х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533520" y="914400"/>
            <a:ext cx="7924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это время Умников первый открыл огонь по фашистской колонне. Его поддержали товарищи. Завязался б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должая двигаться по шоссе, советские танки огнём и гусеницами расчищали себе путь. Умников понял: долго не продержаться и потом отправил один из танков за подкреплением. Бой разгорался с каждой минутой. Закончились боеприпасы. Наши танкисты начали забрасывать гитлеровцев гранатами. Иссяк и этот зап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ашисты ринулись в контратаку. Умников и его товарищи открыли огонь из автоматов. Чтобы удобнее было стрелять, Умников вылез из люка, метким огнём уничтожая фашистских солдат, бегущих к танку. Но вот лейтенант почувствовал резкую боль в ноге. «Ранен», - подумал он. Сполз в танк, перевязал рану. Некоторое замешательство танкистов окрылило гитлеровцев. Они двинулись вперёд, чтобы захватить головной тан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2"/>
          <p:cNvSpPr/>
          <p:nvPr/>
        </p:nvSpPr>
        <p:spPr>
          <a:xfrm>
            <a:off x="685800" y="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мников ждал их приближения, зная о том, что есть в запасе ещё один снаряд. И когда те почти приблизились, выстрелил .... А в это время по шоссе уже мчались на выручку храбрецам наши краснозвёздные «тридцатьчетвёрки» 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5" descr="сканирование0057"/>
          <p:cNvPicPr/>
          <p:nvPr/>
        </p:nvPicPr>
        <p:blipFill>
          <a:blip r:embed="rId1"/>
          <a:stretch/>
        </p:blipFill>
        <p:spPr>
          <a:xfrm>
            <a:off x="1676520" y="2666880"/>
            <a:ext cx="5748120" cy="3353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7 апреля 1943г. Андрею Ивановичу было присвоено звание Героя Советского Сою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4" descr="сканирование0046"/>
          <p:cNvPicPr/>
          <p:nvPr/>
        </p:nvPicPr>
        <p:blipFill>
          <a:blip r:embed="rId1"/>
          <a:stretch/>
        </p:blipFill>
        <p:spPr>
          <a:xfrm>
            <a:off x="838080" y="1219320"/>
            <a:ext cx="3154320" cy="4645080"/>
          </a:xfrm>
          <a:prstGeom prst="rect">
            <a:avLst/>
          </a:prstGeom>
          <a:ln w="0">
            <a:noFill/>
          </a:ln>
        </p:spPr>
      </p:pic>
      <p:pic>
        <p:nvPicPr>
          <p:cNvPr id="686" name="Рисунок 3" descr="Умников А.И.JPG"/>
          <p:cNvPicPr/>
          <p:nvPr/>
        </p:nvPicPr>
        <p:blipFill>
          <a:blip r:embed="rId2"/>
          <a:stretch/>
        </p:blipFill>
        <p:spPr>
          <a:xfrm>
            <a:off x="4876920" y="685800"/>
            <a:ext cx="3811320" cy="5346720"/>
          </a:xfrm>
          <a:prstGeom prst="rect">
            <a:avLst/>
          </a:prstGeom>
          <a:ln w="0">
            <a:noFill/>
          </a:ln>
        </p:spPr>
      </p:pic>
      <p:sp>
        <p:nvSpPr>
          <p:cNvPr id="687" name="TextBox 4"/>
          <p:cNvSpPr/>
          <p:nvPr/>
        </p:nvSpPr>
        <p:spPr>
          <a:xfrm>
            <a:off x="4964040" y="6019920"/>
            <a:ext cx="35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градной лист Умникова А. 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краткое описание подви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3" descr="сканирование0049"/>
          <p:cNvPicPr/>
          <p:nvPr/>
        </p:nvPicPr>
        <p:blipFill>
          <a:blip r:embed="rId1"/>
          <a:stretch/>
        </p:blipFill>
        <p:spPr>
          <a:xfrm>
            <a:off x="762120" y="1219320"/>
            <a:ext cx="7694640" cy="502920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4"/>
          <p:cNvSpPr/>
          <p:nvPr/>
        </p:nvSpPr>
        <p:spPr>
          <a:xfrm>
            <a:off x="0" y="15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оследствии был награждён орденом Красного Знамени, орденом Ленина, Отечественной войны 1 степени и многими другими медалями.  Долгое время служил в рядах Советской Арм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0" y="22860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дрей Иванович воспитал сына, Умникова Виктора, который тоже пошел по стопам своего отца, закончил военное училищ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Picture 3" descr="сканирование0047"/>
          <p:cNvPicPr/>
          <p:nvPr/>
        </p:nvPicPr>
        <p:blipFill>
          <a:blip r:embed="rId1"/>
          <a:stretch/>
        </p:blipFill>
        <p:spPr>
          <a:xfrm>
            <a:off x="838080" y="1143000"/>
            <a:ext cx="7937640" cy="510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демобилизации работал в органах охраны общественного порядка и в облсобесе Псковской област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3" descr="сканирование0048"/>
          <p:cNvPicPr/>
          <p:nvPr/>
        </p:nvPicPr>
        <p:blipFill>
          <a:blip r:embed="rId1"/>
          <a:stretch/>
        </p:blipFill>
        <p:spPr>
          <a:xfrm>
            <a:off x="2819520" y="990720"/>
            <a:ext cx="3504960" cy="527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сканирование0054"/>
          <p:cNvPicPr/>
          <p:nvPr/>
        </p:nvPicPr>
        <p:blipFill>
          <a:blip r:embed="rId1"/>
          <a:stretch/>
        </p:blipFill>
        <p:spPr>
          <a:xfrm>
            <a:off x="533520" y="380880"/>
            <a:ext cx="2057400" cy="29070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" descr="сканирование0050"/>
          <p:cNvPicPr/>
          <p:nvPr/>
        </p:nvPicPr>
        <p:blipFill>
          <a:blip r:embed="rId2"/>
          <a:stretch/>
        </p:blipFill>
        <p:spPr>
          <a:xfrm>
            <a:off x="3733920" y="457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" descr="сканирование0053"/>
          <p:cNvPicPr/>
          <p:nvPr/>
        </p:nvPicPr>
        <p:blipFill>
          <a:blip r:embed="rId3"/>
          <a:stretch/>
        </p:blipFill>
        <p:spPr>
          <a:xfrm>
            <a:off x="685800" y="4038480"/>
            <a:ext cx="3457440" cy="2362320"/>
          </a:xfrm>
          <a:prstGeom prst="rect">
            <a:avLst/>
          </a:prstGeom>
          <a:ln w="0">
            <a:noFill/>
          </a:ln>
        </p:spPr>
      </p:pic>
      <p:sp>
        <p:nvSpPr>
          <p:cNvPr id="697" name="TextBox 5"/>
          <p:cNvSpPr/>
          <p:nvPr/>
        </p:nvSpPr>
        <p:spPr>
          <a:xfrm>
            <a:off x="5257800" y="45720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левоенные фотографии Андрея Иванови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304920" y="2362320"/>
            <a:ext cx="36576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ников Андрей Иванович скончался 11 февраля 1989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жусь тем, что память и имя героя-земляка увековечены в Москве на Поклонной го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3" descr="сканирование0055"/>
          <p:cNvPicPr/>
          <p:nvPr/>
        </p:nvPicPr>
        <p:blipFill>
          <a:blip r:embed="rId1"/>
          <a:stretch/>
        </p:blipFill>
        <p:spPr>
          <a:xfrm>
            <a:off x="4253040" y="0"/>
            <a:ext cx="4890960" cy="6858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" descr="умнико А"/>
          <p:cNvPicPr/>
          <p:nvPr/>
        </p:nvPicPr>
        <p:blipFill>
          <a:blip r:embed="rId2"/>
          <a:stretch/>
        </p:blipFill>
        <p:spPr>
          <a:xfrm>
            <a:off x="838080" y="152280"/>
            <a:ext cx="1905120" cy="2254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Прямоугольник 2"/>
          <p:cNvSpPr/>
          <p:nvPr/>
        </p:nvSpPr>
        <p:spPr>
          <a:xfrm>
            <a:off x="838080" y="838080"/>
            <a:ext cx="777240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6ecff"/>
                </a:solidFill>
                <a:uFillTx/>
                <a:latin typeface="Arial"/>
              </a:rPr>
              <a:t>Объект исследования: </a:t>
            </a:r>
            <a:br>
              <a:rPr sz="2000"/>
            </a:br>
            <a:r>
              <a:rPr b="1" lang="ru-RU" sz="1800" spc="-1" strike="noStrike">
                <a:solidFill>
                  <a:srgbClr val="d6ecff"/>
                </a:solidFill>
                <a:latin typeface="Arial"/>
              </a:rPr>
              <a:t>-материалы музея Фёдоровской средней школы Покровского района Орловской об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6e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ecff"/>
                </a:solidFill>
                <a:latin typeface="Arial"/>
              </a:rPr>
              <a:t>фотографии;</a:t>
            </a:r>
            <a:br>
              <a:rPr sz="1800"/>
            </a:br>
            <a:r>
              <a:rPr b="1" lang="ru-RU" sz="1800" spc="-1" strike="noStrike">
                <a:solidFill>
                  <a:srgbClr val="d6ecff"/>
                </a:solidFill>
                <a:latin typeface="Arial"/>
              </a:rPr>
              <a:t>- архивные материа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6ecff"/>
                </a:solidFill>
                <a:uFillTx/>
                <a:latin typeface="Arial"/>
              </a:rPr>
              <a:t>Актуальность:  </a:t>
            </a:r>
            <a:r>
              <a:rPr b="1" lang="ru-RU" sz="2000" spc="-1" strike="noStrike">
                <a:solidFill>
                  <a:srgbClr val="d6ecff"/>
                </a:solidFill>
                <a:latin typeface="Arial"/>
              </a:rPr>
              <a:t>обусловлена повышенным интересом к событиям Великой Отечественной войны 1941-1945 гг. , в связи с необходимостью сохранения максимально подробной и достоверной информации для потомков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100_1397"/>
          <p:cNvPicPr/>
          <p:nvPr/>
        </p:nvPicPr>
        <p:blipFill>
          <a:blip r:embed="rId1"/>
          <a:stretch/>
        </p:blipFill>
        <p:spPr>
          <a:xfrm>
            <a:off x="4419720" y="304920"/>
            <a:ext cx="4444920" cy="333360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Чтут память героя  в моём родном крае. Пионерская дружина  нашей Фёдоровской средней школы Покровского района Орловской области носит имя Умникова Андрея Ивановича. На центральной усадьбе в с. Федоровка установлен памятный знак герою. В посёлке  Покровское установлен барельеф на Аллее Славы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25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TextBox 3"/>
          <p:cNvSpPr/>
          <p:nvPr/>
        </p:nvSpPr>
        <p:spPr>
          <a:xfrm>
            <a:off x="380880" y="48006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 забывают своего защитника и в семье Умниковых. Давно уже стало традицией собираться всей своей многочисленной семьёй 9 мая в День Победы и поднимать тост за прадеда, за настоящего Героя своей Род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4"/>
          <p:cNvSpPr/>
          <p:nvPr/>
        </p:nvSpPr>
        <p:spPr>
          <a:xfrm>
            <a:off x="4572000" y="365760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На фото (слева направо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): внучатый племянник Умников Николай  Александрович, его внучатые правну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3688920" y="256680"/>
            <a:ext cx="5065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днажды в кино увидали Берли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ровавое пламя, закаты над ни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хожий на нас, как отец или бра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о знаменем алым высокий солд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Бежал по ступенькам Рейхстага к Побед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 мы в 45-м: не жили на свет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олдат-победитель на вечном пост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тоит в нашем парке у всех на вид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обравший в себя красоту тех ребя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Что грудью своею спасли Cталингра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И тех, кто за счастье родимой зем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д Курском и Керчью костьми полегли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усть мы в 45-м не жили на свет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ождённые позже, войны прошлой де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ечёт в наших жилах отцовская кров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гибших в войне за родных и любов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олдатская ДОЛЯ и нам по плеч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Любому врагу я в лицо закрич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Что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одину нашу всегда защити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Чтоб не был над нею Освенцима дым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Рисунок 2" descr="1031160_b.jpeg"/>
          <p:cNvPicPr/>
          <p:nvPr/>
        </p:nvPicPr>
        <p:blipFill>
          <a:blip r:embed="rId1"/>
          <a:stretch/>
        </p:blipFill>
        <p:spPr>
          <a:xfrm>
            <a:off x="152280" y="1905120"/>
            <a:ext cx="3454560" cy="2590560"/>
          </a:xfrm>
          <a:prstGeom prst="rect">
            <a:avLst/>
          </a:prstGeom>
          <a:ln w="0">
            <a:noFill/>
          </a:ln>
        </p:spPr>
      </p:pic>
      <p:sp>
        <p:nvSpPr>
          <p:cNvPr id="707" name="TextBox 3"/>
          <p:cNvSpPr/>
          <p:nvPr/>
        </p:nvSpPr>
        <p:spPr>
          <a:xfrm>
            <a:off x="45720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SL740814"/>
          <p:cNvPicPr/>
          <p:nvPr/>
        </p:nvPicPr>
        <p:blipFill>
          <a:blip r:embed="rId1"/>
          <a:stretch/>
        </p:blipFill>
        <p:spPr>
          <a:xfrm>
            <a:off x="380880" y="1371600"/>
            <a:ext cx="3810240" cy="31179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5"/>
          <p:cNvSpPr/>
          <p:nvPr/>
        </p:nvSpPr>
        <p:spPr>
          <a:xfrm>
            <a:off x="609480" y="304920"/>
            <a:ext cx="8229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тература и источн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-- сайт  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podvignaroda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.mil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0" name="Рисунок 3" descr="SL740786.JPG"/>
          <p:cNvPicPr/>
          <p:nvPr/>
        </p:nvPicPr>
        <p:blipFill>
          <a:blip r:embed="rId5"/>
          <a:stretch/>
        </p:blipFill>
        <p:spPr>
          <a:xfrm>
            <a:off x="502920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11" name="Рисунок 4" descr="SL740787.JPG"/>
          <p:cNvPicPr/>
          <p:nvPr/>
        </p:nvPicPr>
        <p:blipFill>
          <a:blip r:embed="rId6"/>
          <a:stretch/>
        </p:blipFill>
        <p:spPr>
          <a:xfrm>
            <a:off x="6553080" y="480060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712" name="Рисунок 5" descr="SL740800.JPG"/>
          <p:cNvPicPr/>
          <p:nvPr/>
        </p:nvPicPr>
        <p:blipFill>
          <a:blip r:embed="rId7"/>
          <a:stretch/>
        </p:blipFill>
        <p:spPr>
          <a:xfrm>
            <a:off x="3733920" y="47242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713" name="Рисунок 6" descr="SL740815.JPG"/>
          <p:cNvPicPr/>
          <p:nvPr/>
        </p:nvPicPr>
        <p:blipFill>
          <a:blip r:embed="rId8"/>
          <a:stretch/>
        </p:blipFill>
        <p:spPr>
          <a:xfrm>
            <a:off x="457200" y="4648320"/>
            <a:ext cx="2540160" cy="190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Рисунок 1" descr="SL740754.JPG"/>
          <p:cNvPicPr/>
          <p:nvPr/>
        </p:nvPicPr>
        <p:blipFill>
          <a:blip r:embed="rId1"/>
          <a:stretch/>
        </p:blipFill>
        <p:spPr>
          <a:xfrm>
            <a:off x="5105520" y="3657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15" name="Рисунок 2" descr="SL740755.JPG"/>
          <p:cNvPicPr/>
          <p:nvPr/>
        </p:nvPicPr>
        <p:blipFill>
          <a:blip r:embed="rId2"/>
          <a:stretch/>
        </p:blipFill>
        <p:spPr>
          <a:xfrm>
            <a:off x="304920" y="380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16" name="TextBox 3"/>
          <p:cNvSpPr/>
          <p:nvPr/>
        </p:nvSpPr>
        <p:spPr>
          <a:xfrm>
            <a:off x="858960" y="4343400"/>
            <a:ext cx="37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 Андрее Ивановиче Умников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ранящиеся в муз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ёдоровской средней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кров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рл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6"/>
          <p:cNvSpPr/>
          <p:nvPr/>
        </p:nvSpPr>
        <p:spPr>
          <a:xfrm>
            <a:off x="457200" y="457200"/>
            <a:ext cx="815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окровский район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дин из самых пострадавших в годы Великой Отечественной войны районов Орловской обл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купированный гитлеровцами в конце ноября 1941 года, он был полностью освобожден от фашистов только к концу июля 1943 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купанты казнили более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100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рных жителей, угнали на работу в Германию более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250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еловек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ажды на территории края проходила линия советско-германского фронта,  вдоль которой шли тяжелые бои местного зна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Picture 10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895480" cy="16765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4" descr=""/>
          <p:cNvPicPr/>
          <p:nvPr/>
        </p:nvPicPr>
        <p:blipFill>
          <a:blip r:embed="rId2"/>
          <a:stretch/>
        </p:blipFill>
        <p:spPr>
          <a:xfrm>
            <a:off x="2895480" y="487692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3" descr=""/>
          <p:cNvPicPr/>
          <p:nvPr/>
        </p:nvPicPr>
        <p:blipFill>
          <a:blip r:embed="rId3"/>
          <a:srcRect l="0" t="0" r="2437" b="7091"/>
          <a:stretch/>
        </p:blipFill>
        <p:spPr>
          <a:xfrm>
            <a:off x="0" y="4876920"/>
            <a:ext cx="3048120" cy="1600200"/>
          </a:xfrm>
          <a:prstGeom prst="rect">
            <a:avLst/>
          </a:prstGeom>
          <a:ln w="0">
            <a:noFill/>
          </a:ln>
        </p:spPr>
      </p:pic>
      <p:sp>
        <p:nvSpPr>
          <p:cNvPr id="628" name="WordArt 12"/>
          <p:cNvSpPr txBox="1"/>
          <p:nvPr/>
        </p:nvSpPr>
        <p:spPr>
          <a:xfrm>
            <a:off x="2743200" y="5029200"/>
            <a:ext cx="358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941 - 194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5" descr="карта Покровки"/>
          <p:cNvPicPr/>
          <p:nvPr/>
        </p:nvPicPr>
        <p:blipFill>
          <a:blip r:embed="rId1"/>
          <a:stretch/>
        </p:blipFill>
        <p:spPr>
          <a:xfrm>
            <a:off x="1719360" y="0"/>
            <a:ext cx="56419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WordArt 4"/>
          <p:cNvSpPr txBox="1"/>
          <p:nvPr/>
        </p:nvSpPr>
        <p:spPr>
          <a:xfrm>
            <a:off x="1066680" y="990720"/>
            <a:ext cx="7239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амятные мест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кровского рай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4"/>
          <p:cNvSpPr/>
          <p:nvPr/>
        </p:nvSpPr>
        <p:spPr>
          <a:xfrm>
            <a:off x="762120" y="685800"/>
            <a:ext cx="784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елок Покровск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 место захоронения Героя Советского Союза И. К.  Морозова, командира батареи 73-й стрелковой дивиз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ло Алексеев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место жестоких боев зимой-летом 1943 года и боевого крещения 16-й Литовской дивизии, одна из самых больших по числу захороненных братская могила - более 1000 человек, памятные знаки на церкви Петра, Алексея и Ионы, где находился госпиталь 16-й Литовской дивизии, и в долине смер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ло Березов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бывшее Ворово) - родина Героя Советского Союза С. В. Руднева и полного кавалера орденов Славы Г. Н. Селез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ревня Баранов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ейчас - часть деревни Протасово ) - родина Героя Советского Союза В. Д. Волынк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4"/>
          <p:cNvSpPr/>
          <p:nvPr/>
        </p:nvSpPr>
        <p:spPr>
          <a:xfrm>
            <a:off x="0" y="53352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ло Веприне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место расстрела фашистами 23 февраля 1942 года 64-х мирных жителей райо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ло Верхососень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 родина Героя Советского Союза Н. С. Алферьева, летчика-штурмов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ревня Веселов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теперь - часть деревни Юрьево) - родина Героя Советского Союза танкиста А. И. Умнико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ревня Гремячь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дина Героя Советского Союза В. Ф. Рыбк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ло Ени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дина Героя Советского Союза М. Б. Харчико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ревня Лес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есто подвига Героя Советского Союза Бурана Нсанбае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ло Липове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дина Героев Советского Союза И. И. Мишина и В. Д. Казакова. В селе Липовец немецкий танк оборвал телефонные провода. Ок­купанты вину за это свалили на население и расстреляли 42 человека за «саботаж» и «порчу военного имущества»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.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4"/>
          <p:cNvSpPr/>
          <p:nvPr/>
        </p:nvSpPr>
        <p:spPr>
          <a:xfrm>
            <a:off x="304920" y="762120"/>
            <a:ext cx="84582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ло Никольск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дина Героя Советского Союза И. В. Дубин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ревня Приле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дина Героя Советского Союза М. А. Грине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 родина полного кавалера орденов Славы Г. С. Шалимо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ло Труд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зывают сегодня Орловской Хатынью. Здесь расположена  одна из двух самых больших в районе братских могил – захоронено более 600 советских солдат, 1200 дворов с населением 8720 человека насчитывалось в нём накануне войны. 19 ноября 1941 года враг вошёл в село на 15 месяцев. В 1943 году 14 февраля воины Советской Армии освободили его. «Боец! Отомсти за село Трудки!» - гласила надпись на мосту через реку Труды.Село Трудки - родина Героя Советского Союза И. Ф. Сапелкина и полного кавалера орденов Славы В. Б. Селют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ло Трубицы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дина полного кавалера орденов Славы И. М. Черкасо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6:21:08Z</dcterms:created>
  <dc:creator>Макс</dc:creator>
  <dc:description/>
  <dc:language>en-US</dc:language>
  <cp:lastModifiedBy>Serg</cp:lastModifiedBy>
  <dcterms:modified xsi:type="dcterms:W3CDTF">2011-10-13T14:47:58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