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D310-2720-487E-B571-7537A7C1DC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я шку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D13-530F-4926-84F8-F7D49F009C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CD1-E52A-4715-B4C8-19012DA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CA5-76E9-46A0-B802-2DB2F0B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542-8905-4ED4-B8FB-D0BAEAFE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065-3DA5-4432-8DAA-255FAEB5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B03-82D3-4872-ACB5-7D76757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27D-DBF1-4F52-B985-B9E4EC2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7EA-8004-4178-95F2-AA4A669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2C0-7168-4237-82A7-6A0C339D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C50-8DE9-406B-BE41-F0F5BA7C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2D3-7E43-46FA-B69A-C523CE6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4BC-E703-4C66-98E2-AEB49A5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C00-51F4-4D4B-9DB1-0B4547F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7B7-E9D9-4122-8C21-CD95FCD44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 Antiqua"/>
              </a:rPr>
              <a:t>ВСПОМНИТЬ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Book Antiqua"/>
              </a:rPr>
              <a:t>ВСЕХ ПОИМЕНН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Белинский\памятник.jpg"/>
          <p:cNvPicPr/>
          <p:nvPr/>
        </p:nvPicPr>
        <p:blipFill>
          <a:blip r:embed="rId1"/>
          <a:stretch/>
        </p:blipFill>
        <p:spPr>
          <a:xfrm>
            <a:off x="214200" y="214200"/>
            <a:ext cx="3286080" cy="5289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3714840" y="142920"/>
            <a:ext cx="52149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скресенье, 17 декабря 1944 года состоялись похороны  Белинского на военном кладбище Кайряй Клайпедского района Литовской ССР. Мне, командиру дивизии ,было предоставлено первое слово. Признаюсь, начиная с боев в гражданскую войну, я потерял многих дорогих моему сердцу товарищей, но перед этой свежей могилой я чувствовал не только потерю боевого друга, а нечто более значительное – я будто похоронил здесь своего сы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моё сжимало жестокая боль и глубокая скорбь запомнило всё моё существо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изнес несколько прощальных слов у могилы Ефима, потом все его боевые друзья стали по стойке «смирно», а артиллерийский дивизион дал три залпа по врагу. Огонь вели двенадцать гаубиц, в том числе и те, которыми командовал Ефим. Гроб с телом Белинского опустили в моги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ратском кладбище Кайряй вместе с Е.Белинским  захоронена ещё 180 его боевых товарищей, среди них 6 Героев Советского Союза, многие из  которых были близкими друзьями Белинск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ший командир 32-й Верхне-Днепровской                       Краснознамённой ордена Сувор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овой дивиз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майор Вербов Я.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8760" y="357120"/>
            <a:ext cx="850104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ом Президиума Верховного Совета СССР от 24 мая 1945 года Ефиму Семеновичу Белинскому посмертно присвоено высокое звание Героя Советского Союза . 25 марта ему бы исполнилось 20 л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20 ле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:\Белинский\родине1234.jpg"/>
          <p:cNvPicPr/>
          <p:nvPr/>
        </p:nvPicPr>
        <p:blipFill>
          <a:blip r:embed="rId1"/>
          <a:stretch/>
        </p:blipFill>
        <p:spPr>
          <a:xfrm>
            <a:off x="285840" y="214200"/>
            <a:ext cx="3143160" cy="4192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857760" y="357120"/>
            <a:ext cx="47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та память земляков о Герое. Бережно, по крупицам, собирают они историю короткой и славной жизни юноши-воина из Северо-Енисейска. Из уст в уста передается легенда о подвиге; как эстафету мужества, чести, доблести передают отцы детям, а те – своим младшим братьям и сёстрам. И с клятвой учащиеся Северо-Енисейской средней школы №1 (носящей имя Е.Белинского) верны памяти Гер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85840" y="4429080"/>
            <a:ext cx="321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геро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дворе Северо-Енисейской средней общеобразовательной школы №1, после окончания кото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шел на вой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880" y="2785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Ефим Семёнович </a:t>
            </a: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Белински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43040" y="21384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ЖИВИ И ПОМНИ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29120" y="514368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рнавская Ларис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Северо-Енисейская средняя общеобразовательная школа 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500120" y="1428840"/>
            <a:ext cx="6400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Monotype Corsiva"/>
              </a:rPr>
              <a:t>Сын Сибир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35712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 очень хотел бы, чтобы история жизни Белинского пробудила в молодом современнике чувство гордости за таких людей, каким был Ефим, святое желание быть в чем-то похожим на нег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подражании героическим, самозабвенно преданным своему долгу людям, мне представляется смысл жизни, её радость, её будущ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.И. Порот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одноклассник Героя Совет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юза Е.С.Белинског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432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Белинский\родине.jpg"/>
          <p:cNvPicPr/>
          <p:nvPr/>
        </p:nvPicPr>
        <p:blipFill>
          <a:blip r:embed="rId1"/>
          <a:stretch/>
        </p:blipFill>
        <p:spPr>
          <a:xfrm>
            <a:off x="214200" y="285840"/>
            <a:ext cx="2214720" cy="309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714760" y="357120"/>
            <a:ext cx="60721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8 января 1943 года, когда Ефиму не было ещё 18, он пошел добровольцем на действительную службу в ряды Красной Арм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сентябре 1943 года Е.Белинский закончил артиллерийское училище в звании младшего лейтенанта и был направлен на фрон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радной ли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28760" y="12855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амилия, имя и отчество – БЕЛИНСКИЙ Ефим Семёнови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вание – лейтенан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лжность – командир взвода 133 арт. полка стрелковой Верх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провской Краснознаменной ордена Суворова дивиз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ся к званию «Герой Советского Союза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д рождения – 192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циональность – евре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артийность – член ВКП(б) 1944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астие в Гражданской войне, последующих боевых действия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щите СССР и Отечественной войне (когда, где) – 2-3 Бел.фрон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5.06.44 г.по 20.08.44 г., 1 Приб.фронт с 20.08.44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меет ли ранения и контузии в Отечественной войне – легк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 10.09.44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 какого времени в Красной Армии – с мая 1943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аким РВК призван – Енисейским РВК Красноярского кра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ем ранее был награжден – орденом Отечественной войны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остоянный домашний адрес представляемого к награждению и адрес его семь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ярский край, Северо-Енисейский район, пос.Сов.Рудник. Мать – Белинска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завета Ефимовн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Ты молод был – всего лишь 19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А Родину как мать свою любил!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 В последний бой в последний раз поднялся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И амбразуру телом перекры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12.44 г. в бою по захвату контрольного пленного в районе Будделькемен проявил образец мужества, героизма и преданности Социалистической Роди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В 4:00 16.12.44 г. под покровом ночи лейтенант БЕЛИНСКИЙ с группой разведчиков в три человека пробрался за передний край немецкой обороны и, будучи отрезан от основной группы захвата, вступил в неравный бой один против восьми немцев, обеспечивая действия группы. Когда по группе захвата открыл ураганный огонь пулемёт противника, прижав её к земле на открытой местности, освещенной ракетами, когда неминуемая смерть грозила всей группе, лейтенант БЕЛИНСКИЙ, жертвуя собой, под сильным огнем противника, ринулся вперёд через минное поле к ДЗОТу врага. Раненый, весь в крови, добрался лейтенант БЕЛИНСКИЙ до ДЗОТа и в полусознательном состоянии бросил в амбразуру гранату и дал очередь из автомата. Пулемёт умолк. В это время начал работать другой пулемёт – лейтенант БЕЛИНСКИЙ бросился к нему и, закрыв своим телом амбразуру ДЗОТа, был убит. Горя желание отомстить за гибель своего командира, группа бросается вперед, забрасывая пулемёт и траншею гранатами, захватывает пленного и отходит обратно, успешно выполнив зад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За мужество, решительность и преданность Социалистической Родине, вплоть до самопожертвования при выполнении боевого задания, достоин присвоения посмертного звания «Герой Советского Союз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п.п.командир 133 арт.пол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майор А.Н. Ганен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Белинский\родине1.jpg"/>
          <p:cNvPicPr/>
          <p:nvPr/>
        </p:nvPicPr>
        <p:blipFill>
          <a:blip r:embed="rId1"/>
          <a:stretch/>
        </p:blipFill>
        <p:spPr>
          <a:xfrm>
            <a:off x="3143160" y="214200"/>
            <a:ext cx="2428920" cy="3287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785880" y="3857760"/>
            <a:ext cx="764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е забыть своих детей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на кровавой ни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 поднять плакучей и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х поникнувших ветв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00200" y="357192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завета Ефимовна Белин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G:\Белинский\родине123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238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786120" y="285840"/>
            <a:ext cx="514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н мир хотел обнят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выбор сделан. Шаг вперёд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н, дзот – источник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нал – сейчас за ним пойд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батальон. И он с ним вме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одно лишь смог он сделать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ванулся, словно бы в полё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й грудью, всей душой и телом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хлебнулся кровью дз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то на свете не смогло 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батальон останов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 лежал, обнявши дзо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,  как всем, хотелось жи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, как всем хотелось жи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сем любить, как всем мечт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в руки, он лежи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то мир хотел обня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85840" y="4429080"/>
            <a:ext cx="30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Е.Белинско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 в сентябре 1983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Лесосибирс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6:26:30Z</dcterms:created>
  <dc:creator>Ирэн</dc:creator>
  <dc:description/>
  <dc:language>en-US</dc:language>
  <cp:lastModifiedBy>Ирэн</cp:lastModifiedBy>
  <dcterms:modified xsi:type="dcterms:W3CDTF">2010-03-27T08:30:27Z</dcterms:modified>
  <cp:revision>25</cp:revision>
  <dc:subject/>
  <dc:title>ВСПОМНИТЬ ВСЕХ ПОИМЕННО</dc:title>
</cp:coreProperties>
</file>