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applause.wav" ContentType="audio/x-wav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FF5A-E2FE-4F7D-8052-EC6DF469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7B3-1CAD-44B6-9780-FB5D06AE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B27-EBF8-430F-BFD5-02416C17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B92-FBC6-4F60-BF69-3CD718A3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EB8A-059D-49AA-8A7C-4005AF46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968D-5590-4649-BE8B-1FB4E34A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EDEF-F9F8-4344-AEA1-A9716BDB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F7B0-F40A-420A-A191-E93EB6E1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2F8D-5603-4AEA-9B5B-F2296EF6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1016-F124-4B87-8D38-3A03B221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986A-D741-4DB9-8AD7-F1524D60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6DE-2EE2-49EC-A0BB-33BDEF23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2674-FA34-460E-AA33-F96EAB8B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B4BA-0948-487E-A237-FCDFF590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5BF7-4F54-4EE2-B684-6C148DDE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B68D-9B84-4907-B48D-451CC53E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3010-7913-48B0-BF65-32503740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24B-8790-447D-BFFB-4DF2DF63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A88-6A88-42FB-B153-45A80BE2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724-F8B2-4D74-BD88-71F30413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F95-DC1A-4BC3-9229-67DAFBF5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05C-E8C7-4DE3-A33E-AAB6CB24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F44-8C75-4B8C-94C0-AF585CB0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D6C-FDDB-4211-AEC8-F14A4237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8054-A6BF-432D-A8BE-63487A775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3039-C268-4C78-823D-8B1344324ED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2720" y="533160"/>
            <a:ext cx="55609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История семьи Фальшиных в годы Великой Отечественной войн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800240" y="3885840"/>
            <a:ext cx="41893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Грудинина Юл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Ученица 10-в класса МОУ «Гимназия №40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Черникова Елена Владимиро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Учитель истории МОУ «Гимназия №40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Послевоенная жизнь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285920"/>
            <a:ext cx="3914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На немецкой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земл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в ознаменов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ание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героического подвиг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оветских воинов – победителей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павших в боях  против фашизм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оздано несколько памятник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Один из памятников находится 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толице Германии – Берлин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Трептов-парк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Дедушка Серёжа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 участвовал 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троительстве Трептов- парка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1" descr="C:\Documents and Settings\ЮЛЯ\Мои документы\Юля\Вов\11.jpg"/>
          <p:cNvPicPr/>
          <p:nvPr/>
        </p:nvPicPr>
        <p:blipFill>
          <a:blip r:embed="rId1"/>
          <a:stretch/>
        </p:blipFill>
        <p:spPr>
          <a:xfrm>
            <a:off x="5410080" y="1523880"/>
            <a:ext cx="31784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500"/>
                            </p:stCondLst>
                            <p:childTnLst>
                              <p:par>
                                <p:cTn id="51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7500"/>
                            </p:stCondLst>
                            <p:childTnLst>
                              <p:par>
                                <p:cTn id="52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9000"/>
                            </p:stCondLst>
                            <p:childTnLst>
                              <p:par>
                                <p:cTn id="53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3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Трептов – парк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4" name="Picture 5" descr="C:\Documents and Settings\ЮЛЯ\Мои документы\Юля\Вов\13.jpg"/>
          <p:cNvPicPr/>
          <p:nvPr/>
        </p:nvPicPr>
        <p:blipFill>
          <a:blip r:embed="rId1"/>
          <a:stretch/>
        </p:blipFill>
        <p:spPr>
          <a:xfrm>
            <a:off x="1828800" y="1752480"/>
            <a:ext cx="652788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Documents and Settings\ЮЛЯ\Мои документы\Юля\Вов\15.jpg"/>
          <p:cNvPicPr/>
          <p:nvPr/>
        </p:nvPicPr>
        <p:blipFill>
          <a:blip r:embed="rId1"/>
          <a:stretch/>
        </p:blipFill>
        <p:spPr>
          <a:xfrm>
            <a:off x="2971800" y="228600"/>
            <a:ext cx="43401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Послевоенная жизнь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85560" y="1071360"/>
            <a:ext cx="478620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Это величественный мемориальный комплек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Центром его является 13-метровая бронзова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Фигура Воина-победителя, стоящая на высок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насыпном холме, которую создал советск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кульптор  Евгений Викторович Вучетич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оветский солдат левой рукой бережно прижима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к себе девочку. В правой- держит  опущенный меч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разрубивший фашистскую свасти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Фигуру воина лепили с уроженца Магнитогорс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рядового Ивана Одарченко, которому было в т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время 21 год. На фронт он попал в 1944 году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закончил боевой путь под Прагой. После войн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остался служить в Берлине, и в 1947 г. скульпто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Вучетич предложил ему позировать для монумен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Моделью сидящей девочки сначала выбирал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немецкого ребенка, как символ освобожд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Германии, но потом Вучетич решил, что девоч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должна быть русской. Так на левой руке воина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освободителя оказалась трехлетняя Света – доч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коменданта Берлина генерала Котиков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257827144"/>
          <p:cNvPicPr/>
          <p:nvPr/>
        </p:nvPicPr>
        <p:blipFill>
          <a:blip r:embed="rId1"/>
          <a:stretch/>
        </p:blipFill>
        <p:spPr>
          <a:xfrm>
            <a:off x="6072120" y="1447920"/>
            <a:ext cx="29289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Послевоенная жизнь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62012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Вход на территорию памятника – ансамбля образуют две полукруглые площади 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однопролетными арками. На них высечены ордена Великой Отечественной войн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цифры «1941-1945» и надпись: «Вечная слава героям, павшим в боях за свободу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независимость социалистической Родины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7" descr="C:\Documents and Settings\ЮЛЯ\Мои документы\Юля\Вов\10.jpg"/>
          <p:cNvPicPr/>
          <p:nvPr/>
        </p:nvPicPr>
        <p:blipFill>
          <a:blip r:embed="rId1"/>
          <a:stretch/>
        </p:blipFill>
        <p:spPr>
          <a:xfrm>
            <a:off x="1785960" y="2571840"/>
            <a:ext cx="6429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500"/>
                            </p:stCondLst>
                            <p:childTnLst>
                              <p:par>
                                <p:cTn id="616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620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500"/>
                            </p:stCondLst>
                            <p:childTnLst>
                              <p:par>
                                <p:cTn id="624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Послевоенная жизнь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85920" y="1071360"/>
            <a:ext cx="41623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Вторая скульптура «Мать–Родина»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женщина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, присев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шая на камень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оперлась на него рукой и наклонил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голову. Эта скульптура –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с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обиратель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образ женщины – матери, вынесшей вс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тяготы войн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В 1947 году мой дедушка, Сергей Я.Ф.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окончил школу Сержантского состав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 февраля 1948 года был назначе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помощником Командира взвод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В июле 1948 года участвовал пр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задержании особо опасного воен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немецкого преступника, за что по приказ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командира части был награжде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10 дневным отпуском. Дедушка побыва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дома в селе Язово Тальменского района. 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октябре 1950 года мой дедушка был уволен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запа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12"/>
          <p:cNvPicPr/>
          <p:nvPr/>
        </p:nvPicPr>
        <p:blipFill>
          <a:blip r:embed="rId1"/>
          <a:stretch/>
        </p:blipFill>
        <p:spPr>
          <a:xfrm>
            <a:off x="5651640" y="1773360"/>
            <a:ext cx="2725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000"/>
                            </p:stCondLst>
                            <p:childTnLst>
                              <p:par>
                                <p:cTn id="64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4500"/>
                            </p:stCondLst>
                            <p:childTnLst>
                              <p:par>
                                <p:cTn id="64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65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6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3500"/>
                            </p:stCondLst>
                            <p:childTnLst>
                              <p:par>
                                <p:cTn id="67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6500"/>
                            </p:stCondLst>
                            <p:childTnLst>
                              <p:par>
                                <p:cTn id="68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9500"/>
                            </p:stCondLst>
                            <p:childTnLst>
                              <p:par>
                                <p:cTn id="69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1000"/>
                            </p:stCondLst>
                            <p:childTnLst>
                              <p:par>
                                <p:cTn id="70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2500"/>
                            </p:stCondLst>
                            <p:childTnLst>
                              <p:par>
                                <p:cTn id="70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71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500"/>
                            </p:stCondLst>
                            <p:childTnLst>
                              <p:par>
                                <p:cTn id="71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7000"/>
                            </p:stCondLst>
                            <p:childTnLst>
                              <p:par>
                                <p:cTn id="72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8500"/>
                            </p:stCondLst>
                            <p:childTnLst>
                              <p:par>
                                <p:cTn id="72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Заключение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620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Мне удалось определить вклад членов семьи Фальшиных в победу над фашизмо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дедушка, Сергей Яковлевич Ф., принимал участие в освобождении Ленинградск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области, взятии города Выборга. За овладение городом Нарва ему была объявле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благодарность Верховным Главнокомандующим Сталиным. Участвовал 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освобождении Эстонской ССР, при штурме и взятии города Кенигсберга, за что бы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награжден медалью «За взятие Кенигсберга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Мой прадедушка, Яков Никитич Фальшин, воевал в состав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кавалерийской дивизии, и был награжден орденом Красного Знамени и орден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уворова 2-ой степен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Мой прадедушка(со стороны папы), Зыков Филипп Михайлович, за боевые заслуг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награждён 2 орденами «Красная звезда», медалью «За отвагу», Медалью «З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освобождение Варшавы», медалью «За взятие Берлина», медалью «За победу  на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Германией в Великой Отечественной войне 1941-1945 годах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О героях военных годов было написано стихотворение моей двоюродной сестр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Ощепковой Ольгой. Она, как и все мы, очень любит  дедушку и посвящает е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тихи.</a:t>
            </a:r>
            <a:r>
              <a:rPr b="0" lang="en-US" sz="1600" spc="-1" strike="noStrike">
                <a:solidFill>
                  <a:srgbClr val="ba6e1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000"/>
                            </p:stCondLst>
                            <p:childTnLst>
                              <p:par>
                                <p:cTn id="743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500"/>
                            </p:stCondLst>
                            <p:childTnLst>
                              <p:par>
                                <p:cTn id="74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6000"/>
                            </p:stCondLst>
                            <p:childTnLst>
                              <p:par>
                                <p:cTn id="753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7500"/>
                            </p:stCondLst>
                            <p:childTnLst>
                              <p:par>
                                <p:cTn id="75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000"/>
                            </p:stCondLst>
                            <p:childTnLst>
                              <p:par>
                                <p:cTn id="763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3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3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6500"/>
                            </p:stCondLst>
                            <p:childTnLst>
                              <p:par>
                                <p:cTn id="78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3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9500"/>
                            </p:stCondLst>
                            <p:childTnLst>
                              <p:par>
                                <p:cTn id="79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803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2500"/>
                            </p:stCondLst>
                            <p:childTnLst>
                              <p:par>
                                <p:cTn id="80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3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5500"/>
                            </p:stCondLst>
                            <p:childTnLst>
                              <p:par>
                                <p:cTn id="81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Стихотворение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857160"/>
            <a:ext cx="76201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Всем  Героям  Великой Отечественной  войны посвящается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Печально я гляжу на лист тетрад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И вспоминаю всё, что знаю о вой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Хочу, чтоб этот стих стал наградо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Всем воевавшим и, конечно же, тебе!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овсем недалеко один солдат прошёл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А где-то там их очень много было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Их серый дым войны с собой увел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Но наша Родина героев не забыла!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ердца всех полны состраданья и любв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Ведь эти, ставшие героями солдат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Когда-то нашу Родину спасл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Так пусть наполнят памятники цветов аромат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Всё было много лет  назад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Но и сейчас, как в те далёкие год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Мы видим перед собой солдат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Подвиги которых не забыть нам никогда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Мы говорим: «Спасибо Ва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За то, что Родину Вы спасли»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Но скоро скажут: «Спасибо!» и на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За то, что мы её сберегл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ba6e1a"/>
                </a:solidFill>
                <a:latin typeface="Times New Roman"/>
              </a:rPr>
              <a:t>Ощепкова Ольга. 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3000"/>
                            </p:stCondLst>
                            <p:childTnLst>
                              <p:par>
                                <p:cTn id="8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4500"/>
                            </p:stCondLst>
                            <p:childTnLst>
                              <p:par>
                                <p:cTn id="8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60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5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90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8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9500"/>
                            </p:stCondLst>
                            <p:childTnLst>
                              <p:par>
                                <p:cTn id="87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2500"/>
                            </p:stCondLst>
                            <p:childTnLst>
                              <p:par>
                                <p:cTn id="88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9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1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5500"/>
                            </p:stCondLst>
                            <p:childTnLst>
                              <p:par>
                                <p:cTn id="8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12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7000"/>
                            </p:stCondLst>
                            <p:childTnLst>
                              <p:par>
                                <p:cTn id="89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12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8500"/>
                            </p:stCondLst>
                            <p:childTnLst>
                              <p:par>
                                <p:cTn id="90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12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0000"/>
                            </p:stCondLst>
                            <p:childTnLst>
                              <p:par>
                                <p:cTn id="90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12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1500"/>
                            </p:stCondLst>
                            <p:childTnLst>
                              <p:par>
                                <p:cTn id="9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12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3000"/>
                            </p:stCondLst>
                            <p:childTnLst>
                              <p:par>
                                <p:cTn id="91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12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34500"/>
                            </p:stCondLst>
                            <p:childTnLst>
                              <p:par>
                                <p:cTn id="9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12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Введение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114300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447920" y="1143000"/>
            <a:ext cx="739116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Темой исследования является «История семьи Фальшиных в годы Великой Отечественной войны», не случайно, история любой семьи интересна и необычна. Семейные архивы и воспоминания родных хранят в себе живую историю, которая неразрывно связана с историей стран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Данная тема представляет особую актуальность еще и потому, что всё чаще в последнее время в средствах массовой информации говорится о нападениях и погромах с участием ск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и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нхедов, некоторые люди стремятся расколоть общество, разжигая идеи национализма и шовинизм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Невольное обращаешь внимание на страницы истории, которые хранят память о событиях, которые связанны с подобной идеологией и уносят нас не в столь уж отдаленное прошлое. Так неужели мы позволим забыть о той страшной войне, которая прошлась безжалостно по всем нашим семьям без исключения, в которой пролилось столько крови наших родных и близких люд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676520" y="76212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Наступление  фашизма.</a:t>
            </a:r>
            <a:br>
              <a:rPr sz="4400"/>
            </a:br>
            <a:r>
              <a:rPr b="0" lang="ru-RU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На фронте и в тылу.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57176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емья моего дедушки Сергея Яковлевича Фальшина во время войны жила в сел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Язово Тальменского района. Как и весь советский народ, жители небольш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ибирского села Язово, были возмущены нападением Гитлеровской Германии 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нашу Родину.</a:t>
            </a:r>
            <a:r>
              <a:rPr b="0" lang="en-US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Одним из первых был призван  в армию мой прадедушка (с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тороны папы) Зыков Филипп Михайлович. Затем ушёл на фронт мой прадедуш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Яков Никитич Фальшин (дедушка моей мамы). Весной 1942 года уехал на фрон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тарший брат моего дедушки (по маме) Фальшин Александр Якович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Когда началась война моему дедушке, Сергею Яковлевичу Фальшину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исполнилось 15 лет. В 1941-1942 годах он учился в 6 классе. Мой дедушка в семь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остался за старшего, ему пришлось оставить школу и пойти на работу. На его плеч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легло всё хозяйство. Нужно было обеспечить семью продуктами питания, дровам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кот – сеном. Семья в это время состояла из 5 человек, его мама, три младш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естры и он. Работал мой дедушка в подсобном хозяйстве Усть-Чумышской спла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конто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500"/>
                            </p:stCondLst>
                            <p:childTnLst>
                              <p:par>
                                <p:cTn id="9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Долгожданный фронт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928440"/>
            <a:ext cx="4486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Дедушка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, Сергей Яковлевич,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 рвался на фронт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так как его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тарший брат и отец давно воевал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 фронта приходили тревожные письма 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ранениях брата.  В 1943 году 4 раза вызывал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дедушку в Тальменский военкомат на призы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Но каждый раз отстраняли, причина – был ма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ростом, вот подрастёшь, тогда и возьмём 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армию – говорили ему. Но всё же в ноябре 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года дедушка Серёжа оказался 142см ростом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весом 42 кг и его призвали служить в войс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Министерства Государственной безопасности 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8 отдельный полк связи при 132 отдельн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кабельно-щитовой роты рядовым (линейны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надсмотрщик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 февраля 1944 года мой дедушка ,Серг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Я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ковлевич, находился уже в действующ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арми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" descr="4"/>
          <p:cNvPicPr/>
          <p:nvPr/>
        </p:nvPicPr>
        <p:blipFill>
          <a:blip r:embed="rId1"/>
          <a:stretch/>
        </p:blipFill>
        <p:spPr>
          <a:xfrm>
            <a:off x="5929200" y="1447920"/>
            <a:ext cx="30718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7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900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30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700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Долгожданный фронт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240" y="1356840"/>
            <a:ext cx="33433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С февраля 1944 г. по март 1945 г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воевал на Ленинградском  фронт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Освобождал Ленинградску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область, принимал участие пр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взятии города Выборг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Мой дедушка, Серг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Яковлевич, обеспечивал связ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передовым войска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С марта 1945г. по май 1945г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Воевал на третьем Прибалтийском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фронте и так же обеспечивал связ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с тылом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371600" y="1371600"/>
            <a:ext cx="3276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2" descr="2"/>
          <p:cNvPicPr/>
          <p:nvPr/>
        </p:nvPicPr>
        <p:blipFill>
          <a:blip r:embed="rId1"/>
          <a:stretch/>
        </p:blipFill>
        <p:spPr>
          <a:xfrm>
            <a:off x="4929120" y="1143000"/>
            <a:ext cx="34592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Долгожданный фронт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a6e1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ba6e1a"/>
                </a:solidFill>
                <a:latin typeface="Times New Roman"/>
              </a:rPr>
              <a:t>В июл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ba6e1a"/>
                </a:solidFill>
                <a:latin typeface="Times New Roman"/>
              </a:rPr>
              <a:t>1944г. за овладение городом Нарва ему была объявле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a6e1a"/>
                </a:solidFill>
                <a:latin typeface="Times New Roman"/>
              </a:rPr>
              <a:t>благодарность  Верховным Главнокомандующим И.В. Сталин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7"/>
          <p:cNvPicPr/>
          <p:nvPr/>
        </p:nvPicPr>
        <p:blipFill>
          <a:blip r:embed="rId1"/>
          <a:stretch/>
        </p:blipFill>
        <p:spPr>
          <a:xfrm>
            <a:off x="3352680" y="2146320"/>
            <a:ext cx="32781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Долгожданный фронт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929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a6e1a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После города Нарвы принимал участие 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освобождении   Эстонской ССР.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Закончилась для него война при штурме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взятии города Кенигсберга, за что он бы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награждён медаль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«За взятие Кенигсберга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В ночь на 9 мая представител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германского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командова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подписали акт о безоговорочн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капитуляции гитлеровск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Германии. Советский народ и е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Вооруженные Силы победоносн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Закончили Великую Отечественну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Войн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9 мая стало праздником Побед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Рота моего дедушки обеспечивала охран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таринного замка, где хранились воен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доспехи Немецких пруссаков.</a:t>
            </a:r>
            <a:r>
              <a:rPr b="0" lang="en-US" sz="1600" spc="-1" strike="noStrike">
                <a:solidFill>
                  <a:srgbClr val="ba6e1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371600" y="4114800"/>
            <a:ext cx="3733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docum2"/>
          <p:cNvPicPr/>
          <p:nvPr/>
        </p:nvPicPr>
        <p:blipFill>
          <a:blip r:embed="rId1"/>
          <a:stretch/>
        </p:blipFill>
        <p:spPr>
          <a:xfrm>
            <a:off x="5143680" y="2571840"/>
            <a:ext cx="38574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500"/>
                            </p:stCondLst>
                            <p:childTnLst>
                              <p:par>
                                <p:cTn id="34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000"/>
                            </p:stCondLst>
                            <p:childTnLst>
                              <p:par>
                                <p:cTn id="34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6500"/>
                            </p:stCondLst>
                            <p:childTnLst>
                              <p:par>
                                <p:cTn id="37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9500"/>
                            </p:stCondLst>
                            <p:childTnLst>
                              <p:par>
                                <p:cTn id="38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38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2500"/>
                            </p:stCondLst>
                            <p:childTnLst>
                              <p:par>
                                <p:cTn id="39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5500"/>
                            </p:stCondLst>
                            <p:childTnLst>
                              <p:par>
                                <p:cTn id="40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8500"/>
                            </p:stCondLst>
                            <p:childTnLst>
                              <p:par>
                                <p:cTn id="41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Медали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6" name="Picture 5" descr="C:\Documents and Settings\ЮЛЯ\Мои документы\Юля\Вов\docum1.jpg"/>
          <p:cNvPicPr/>
          <p:nvPr/>
        </p:nvPicPr>
        <p:blipFill>
          <a:blip r:embed="rId1"/>
          <a:stretch/>
        </p:blipFill>
        <p:spPr>
          <a:xfrm>
            <a:off x="1676520" y="1600200"/>
            <a:ext cx="685620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Послевоенная жизнь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1447920"/>
            <a:ext cx="373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Великая Отечественная вой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наложила отпечаток на жизн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деда в после военные годы. О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вынужден был прожить 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Германии 5 лет. В конце ма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1945 года его рота был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доставлена в город Берли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в Гарнизонный караул. С кон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1945 года и полностью 1946 г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рота моего дедуш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обеспечивала охран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Имперской Канцеляри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Рей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</a:rPr>
              <a:t>х</a:t>
            </a: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стага и верховной став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наших оккупационных войск</a:t>
            </a:r>
            <a:r>
              <a:rPr b="0" lang="ru-RU" sz="2000" spc="-1" strike="noStrike">
                <a:solidFill>
                  <a:srgbClr val="ba6e1a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3"/>
          <p:cNvPicPr/>
          <p:nvPr/>
        </p:nvPicPr>
        <p:blipFill>
          <a:blip r:embed="rId1"/>
          <a:stretch/>
        </p:blipFill>
        <p:spPr>
          <a:xfrm>
            <a:off x="5076720" y="2349360"/>
            <a:ext cx="3699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000"/>
                            </p:stCondLst>
                            <p:childTnLst>
                              <p:par>
                                <p:cTn id="45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9000"/>
                            </p:stCondLst>
                            <p:childTnLst>
                              <p:par>
                                <p:cTn id="45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4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7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2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4" dur="5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8" dur="5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9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2" dur="500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2500"/>
                            </p:stCondLst>
                            <p:childTnLst>
                              <p:par>
                                <p:cTn id="49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500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0" dur="500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5:35:57Z</dcterms:created>
  <dc:creator>ЮЛЯ</dc:creator>
  <dc:description/>
  <dc:language>en-US</dc:language>
  <cp:lastModifiedBy>Дмитрий</cp:lastModifiedBy>
  <dcterms:modified xsi:type="dcterms:W3CDTF">2011-10-29T12:59:54Z</dcterms:modified>
  <cp:revision>42</cp:revision>
  <dc:subject/>
  <dc:title>История семьи Фальшиных в годы Великой Отечественной войны</dc:title>
</cp:coreProperties>
</file>