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EE5-E172-478F-B85E-EF27D4EE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EB0-1908-4013-9259-72750D4F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E72-01A2-400F-849A-6B076918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EEC-9ED7-45FA-A68C-1D4512CE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E9AF6-CCD1-4B17-9CB5-740E3D1D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88F60-7B6F-4745-B281-201DA9F5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97342-25F9-4301-96E0-D993ABB5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8A55A-3660-4535-BAFA-66565434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A6500-52D9-4752-BEA6-F2EC8E64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76D20-E229-4FD9-A371-BB68A9FE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3F92D-DCBA-4FDC-8609-7B73750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C4B-AA2E-41C3-828C-F6BCA041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3F368-E9E6-45B8-BC6F-EB63D192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1AAF0-F71F-4693-A18C-D28D48B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3A879-16B8-4C51-BEC2-E92D183E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8C74-7828-480A-8E46-A352A7FE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005CB-F2E1-48BF-BDD8-CBEE8238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5AFA-36F7-4C6F-BF93-57EB3C05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2890-2A57-4ED3-BB81-5E977C20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B42A-6296-4104-AAB3-E950EBE4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7C4C-4251-4B7D-B92A-39C0A70C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4F7A-430E-4D03-B0AE-6CF6DC9D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C22-6BD3-41D4-BDDD-66862B61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6691-DD69-4F36-B6F9-F04288AA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27BC-1990-4385-832D-17EE05F9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0F03-091D-46C6-B090-7B121E0F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C406-79DA-4E24-95B9-889467D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D3ED-D954-4A06-AE5B-13FCA87B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564E-6E90-4945-9189-CFC342C2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3671-2045-4B97-A133-13511390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82023-824B-4E04-A9EC-7B933F8C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0D770-E00D-4810-BED5-D527AE1D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C9A02-14A0-4ABE-AF87-97CB349E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55B-8E5A-4AEA-8B4F-D8721277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75AA8B-9DEA-4589-B9C1-86BDFA0D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4CB05-3FC6-423D-9A38-26085A43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206E84-B39D-48D1-895E-8E1FD42E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6999D-8893-4F84-AFE4-E981D83E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BA880-E107-4159-9633-CA578AC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9A3C6-CDFD-4D77-A965-06CF6169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5FE53-E8B4-4A72-B066-6456E9B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0234F-71A8-4CBE-8D9A-7B49939B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DC57A-E110-4A94-8B22-AF9EB2D9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B2B-149D-4304-A125-3A3FCEE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6AA-40AD-4C9C-A0AC-9D29C7BE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2ED-362E-4629-B857-DB71C2F3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FDD-0609-47A8-A191-FE67696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EB0-EC4D-4AF8-961F-8524912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AB6A-28B8-4FE7-9240-5EEDA4F44C1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D8D9-B24B-4415-985F-B01B5221910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9CB5-A4FB-43D5-9A3E-B1E2123D8ED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7B7D-5F93-4212-8D77-ADEDD3DAA94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Авторы: Кисина Наталья Анатольевна учитель истории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Конюшенко Надежда Андреевна , Михайлюк Ольга Евгеньевна, уч-ся 8б класс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МОУ «СОШ станции Тарханы Саратовского района Саратовской области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2011 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353880" y="706320"/>
            <a:ext cx="831384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6" descr="Scan10382.jpg"/>
          <p:cNvPicPr/>
          <p:nvPr/>
        </p:nvPicPr>
        <p:blipFill>
          <a:blip r:embed="rId1"/>
          <a:stretch/>
        </p:blipFill>
        <p:spPr>
          <a:xfrm>
            <a:off x="714240" y="357120"/>
            <a:ext cx="4357800" cy="60976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244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2" name="Рисунок 7" descr="Scan10388.jpg"/>
          <p:cNvPicPr/>
          <p:nvPr/>
        </p:nvPicPr>
        <p:blipFill>
          <a:blip r:embed="rId2"/>
          <a:stretch/>
        </p:blipFill>
        <p:spPr>
          <a:xfrm>
            <a:off x="4071960" y="928800"/>
            <a:ext cx="3789360" cy="25002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Scan10383.jpg"/>
          <p:cNvPicPr/>
          <p:nvPr/>
        </p:nvPicPr>
        <p:blipFill>
          <a:blip r:embed="rId3"/>
          <a:stretch/>
        </p:blipFill>
        <p:spPr>
          <a:xfrm>
            <a:off x="4643280" y="3071880"/>
            <a:ext cx="2214720" cy="32796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Scan10385.jpg"/>
          <p:cNvPicPr/>
          <p:nvPr/>
        </p:nvPicPr>
        <p:blipFill>
          <a:blip r:embed="rId4"/>
          <a:stretch/>
        </p:blipFill>
        <p:spPr>
          <a:xfrm>
            <a:off x="6643800" y="3786120"/>
            <a:ext cx="1928880" cy="26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3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Scan10384.jpg"/>
          <p:cNvPicPr/>
          <p:nvPr/>
        </p:nvPicPr>
        <p:blipFill>
          <a:blip r:embed="rId1"/>
          <a:stretch/>
        </p:blipFill>
        <p:spPr>
          <a:xfrm>
            <a:off x="357120" y="14292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244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7" name="Рисунок 4" descr="Scan10387.jpg"/>
          <p:cNvPicPr/>
          <p:nvPr/>
        </p:nvPicPr>
        <p:blipFill>
          <a:blip r:embed="rId2"/>
          <a:stretch/>
        </p:blipFill>
        <p:spPr>
          <a:xfrm>
            <a:off x="785880" y="500040"/>
            <a:ext cx="7572240" cy="55008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Scan10389.jpg"/>
          <p:cNvPicPr/>
          <p:nvPr/>
        </p:nvPicPr>
        <p:blipFill>
          <a:blip r:embed="rId3"/>
          <a:stretch/>
        </p:blipFill>
        <p:spPr>
          <a:xfrm>
            <a:off x="1500120" y="1143000"/>
            <a:ext cx="7143840" cy="53578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6" descr="Scan10386.JPG"/>
          <p:cNvPicPr/>
          <p:nvPr/>
        </p:nvPicPr>
        <p:blipFill>
          <a:blip r:embed="rId4"/>
          <a:stretch/>
        </p:blipFill>
        <p:spPr>
          <a:xfrm>
            <a:off x="4071960" y="2857680"/>
            <a:ext cx="4714920" cy="34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3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3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2" descr="20.jpg"/>
          <p:cNvPicPr/>
          <p:nvPr/>
        </p:nvPicPr>
        <p:blipFill>
          <a:blip r:embed="rId1"/>
          <a:stretch/>
        </p:blipFill>
        <p:spPr>
          <a:xfrm>
            <a:off x="928800" y="642960"/>
            <a:ext cx="1928880" cy="2984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00720" y="456840"/>
            <a:ext cx="4262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ac9"/>
                </a:solidFill>
                <a:latin typeface="Constantia"/>
              </a:rPr>
              <a:t>Флакс Ефрем Борисович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456840"/>
            <a:ext cx="3471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9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onstantia"/>
              </a:rPr>
              <a:t>Первый исполнитель песни «Только на фронте (После боя)»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onstantia"/>
              </a:rPr>
              <a:t>Родился в 1909 году в Санкт- Петербург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onstantia"/>
              </a:rPr>
              <a:t>В годы гражданской войны стал беспризорником, воспитывался в детском доме. Работал горняком, печатником, истопником, даже ломовым извозчиком. Но все же в 1936 году окончил Ленинградскую консерваторию и стал солистом Ленинградской филармонии. В годы войны служил на Северо-Западном фронт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onstantia"/>
              </a:rPr>
              <a:t>Записано на пластинки более 100 песен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onstantia"/>
              </a:rPr>
              <a:t>Умер в 1982 год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4" descr="rus_stariki.jpg"/>
          <p:cNvPicPr/>
          <p:nvPr/>
        </p:nvPicPr>
        <p:blipFill>
          <a:blip r:embed="rId1"/>
          <a:stretch/>
        </p:blipFill>
        <p:spPr>
          <a:xfrm>
            <a:off x="428760" y="285840"/>
            <a:ext cx="4647960" cy="2539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215040" y="2286000"/>
            <a:ext cx="219384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efac9"/>
                </a:solidFill>
                <a:latin typeface="Constantia"/>
              </a:rPr>
              <a:t>Руководство Госкино запретило фильм, ссылаясь на то, что он на самом деле не о войне. Однако когда сценарий показали командующему ВВС СССР Александру Покрышкину, он прямо на весь лист поставил резолюцию: </a:t>
            </a:r>
            <a:r>
              <a:rPr b="1" lang="ru-RU" sz="1500" spc="-1" strike="noStrike">
                <a:solidFill>
                  <a:srgbClr val="fefac9"/>
                </a:solidFill>
                <a:latin typeface="Constantia"/>
              </a:rPr>
              <a:t>«Вот это и есть война!»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643360" y="499680"/>
            <a:ext cx="3119400" cy="1523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fac9"/>
                </a:solidFill>
                <a:latin typeface="Constantia"/>
              </a:rPr>
              <a:t>Строчки из песни «Кто сказал, что нужно бросить песни на войне. После боя сердце просит музыки вдвойне» звучат в известном фильме про «поющую эскадрилью».</a:t>
            </a:r>
            <a:endParaRPr b="0" lang="en-US" sz="16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7" name="Рисунок 5" descr="pu2_.jpg"/>
          <p:cNvPicPr/>
          <p:nvPr/>
        </p:nvPicPr>
        <p:blipFill>
          <a:blip r:embed="rId2"/>
          <a:stretch/>
        </p:blipFill>
        <p:spPr>
          <a:xfrm>
            <a:off x="2071800" y="2571840"/>
            <a:ext cx="357192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86360" y="1143000"/>
            <a:ext cx="1981080" cy="16430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nstantia"/>
              </a:rPr>
              <a:t>Помни!</a:t>
            </a: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9" name="Содержимое 4" descr="праз.jpg"/>
          <p:cNvPicPr/>
          <p:nvPr/>
        </p:nvPicPr>
        <p:blipFill>
          <a:blip r:embed="rId1"/>
          <a:stretch/>
        </p:blipFill>
        <p:spPr>
          <a:xfrm>
            <a:off x="1285920" y="285840"/>
            <a:ext cx="4129200" cy="6186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81680" y="1600200"/>
            <a:ext cx="1984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писанный звук" descr=""/>
          <p:cNvPicPr/>
          <p:nvPr/>
        </p:nvPicPr>
        <p:blipFill>
          <a:blip r:embed="rId2"/>
          <a:stretch/>
        </p:blipFill>
        <p:spPr>
          <a:xfrm>
            <a:off x="42876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2048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1153080" y="1714680"/>
            <a:ext cx="72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Фотографии из личного архива Кисиной Н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Фото на слайдах  №8,9.12,13  и биографические дан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http://www.hrono.ru/biograf/bio_l/lebedev_k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http://www.calend.ru/person/378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http://reportage.su/audio/14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www.teles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http://www.sovmusic.ru/person.php?idperson=127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http://www.victory.mvk.ru/content/view/1998/796/lang,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http://www.mixnews.lv/ru/blogs/13/7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есни А.Я. Лепина, В.И. Лебедева-Кумача  «Только на фрон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После боя)» и К. Молчанова, М. Львовского  «Солдаты иду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http://sovmusic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фото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1184040" y="4071960"/>
            <a:ext cx="46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ветлой памяти моего отц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ермякова Анатолия Михайлови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ОСВЯЩ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sol_idut2.mp3" descr=""/>
          <p:cNvPicPr/>
          <p:nvPr/>
        </p:nvPicPr>
        <p:blipFill>
          <a:blip r:embed="rId2"/>
          <a:stretch/>
        </p:blipFill>
        <p:spPr>
          <a:xfrm>
            <a:off x="821520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одержимое 4" descr="5.jpg"/>
          <p:cNvPicPr/>
          <p:nvPr/>
        </p:nvPicPr>
        <p:blipFill>
          <a:blip r:embed="rId1"/>
          <a:stretch/>
        </p:blipFill>
        <p:spPr>
          <a:xfrm>
            <a:off x="1214280" y="428760"/>
            <a:ext cx="4181760" cy="5715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928840" y="1071720"/>
            <a:ext cx="29084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Ты ушел от нас совсем недавно, а я все еще слышу, как тяжело ступая на раненую ногу, ты идешь по дому, напевая для бодрости: «Вот солдаты идут…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Ты любил петь и слушать песн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Природа дала тебе абсолютный слух и красивый голо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5857920" y="457200"/>
            <a:ext cx="2905200" cy="471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ac9"/>
                </a:solidFill>
                <a:latin typeface="Constantia"/>
              </a:rPr>
              <a:t>Здравствуй, папа,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9" name="Содержимое 9" descr="10.jpg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5881680"/>
          </a:xfrm>
          <a:prstGeom prst="rect">
            <a:avLst/>
          </a:prstGeom>
          <a:ln w="0">
            <a:noFill/>
          </a:ln>
        </p:spPr>
      </p:pic>
      <p:pic>
        <p:nvPicPr>
          <p:cNvPr id="180" name="Содержимое 10" descr="6.jpg"/>
          <p:cNvPicPr/>
          <p:nvPr/>
        </p:nvPicPr>
        <p:blipFill>
          <a:blip r:embed="rId2"/>
          <a:stretch/>
        </p:blipFill>
        <p:spPr>
          <a:xfrm>
            <a:off x="6500880" y="3143160"/>
            <a:ext cx="1844640" cy="29480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2"/>
          <p:cNvSpPr/>
          <p:nvPr/>
        </p:nvSpPr>
        <p:spPr>
          <a:xfrm>
            <a:off x="4929120" y="1500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Записанный звук" descr=""/>
          <p:cNvPicPr/>
          <p:nvPr/>
        </p:nvPicPr>
        <p:blipFill>
          <a:blip r:embed="rId3"/>
          <a:stretch/>
        </p:blipFill>
        <p:spPr>
          <a:xfrm>
            <a:off x="1000080" y="57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769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9697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4" descr="2.jpg"/>
          <p:cNvPicPr/>
          <p:nvPr/>
        </p:nvPicPr>
        <p:blipFill>
          <a:blip r:embed="rId1"/>
          <a:stretch/>
        </p:blipFill>
        <p:spPr>
          <a:xfrm>
            <a:off x="785880" y="428760"/>
            <a:ext cx="4356000" cy="53784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5" descr="11.jpg"/>
          <p:cNvPicPr/>
          <p:nvPr/>
        </p:nvPicPr>
        <p:blipFill>
          <a:blip r:embed="rId2"/>
          <a:stretch/>
        </p:blipFill>
        <p:spPr>
          <a:xfrm>
            <a:off x="4786200" y="2286000"/>
            <a:ext cx="1805040" cy="3286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" descr="12.jpg"/>
          <p:cNvPicPr/>
          <p:nvPr/>
        </p:nvPicPr>
        <p:blipFill>
          <a:blip r:embed="rId3"/>
          <a:stretch/>
        </p:blipFill>
        <p:spPr>
          <a:xfrm>
            <a:off x="6286680" y="3643200"/>
            <a:ext cx="2357280" cy="2256120"/>
          </a:xfrm>
          <a:prstGeom prst="rect">
            <a:avLst/>
          </a:prstGeom>
          <a:ln w="0">
            <a:noFill/>
          </a:ln>
        </p:spPr>
      </p:pic>
      <p:pic>
        <p:nvPicPr>
          <p:cNvPr id="186" name="Записанный звук" descr=""/>
          <p:cNvPicPr/>
          <p:nvPr/>
        </p:nvPicPr>
        <p:blipFill>
          <a:blip r:embed="rId4"/>
          <a:stretch/>
        </p:blipFill>
        <p:spPr>
          <a:xfrm>
            <a:off x="850104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438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8.jpg"/>
          <p:cNvPicPr/>
          <p:nvPr/>
        </p:nvPicPr>
        <p:blipFill>
          <a:blip r:embed="rId1"/>
          <a:stretch/>
        </p:blipFill>
        <p:spPr>
          <a:xfrm>
            <a:off x="785880" y="546120"/>
            <a:ext cx="7215120" cy="5494320"/>
          </a:xfrm>
          <a:prstGeom prst="rect">
            <a:avLst/>
          </a:prstGeom>
          <a:ln w="0">
            <a:noFill/>
          </a:ln>
        </p:spPr>
      </p:pic>
      <p:pic>
        <p:nvPicPr>
          <p:cNvPr id="188" name="tolkonaf.mp3" descr=""/>
          <p:cNvPicPr/>
          <p:nvPr/>
        </p:nvPicPr>
        <p:blipFill>
          <a:blip r:embed="rId2"/>
          <a:stretch/>
        </p:blipFill>
        <p:spPr>
          <a:xfrm>
            <a:off x="8286840" y="578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1" descr="9.jpg"/>
          <p:cNvPicPr/>
          <p:nvPr/>
        </p:nvPicPr>
        <p:blipFill>
          <a:blip r:embed="rId1"/>
          <a:stretch/>
        </p:blipFill>
        <p:spPr>
          <a:xfrm>
            <a:off x="1143000" y="500040"/>
            <a:ext cx="7143840" cy="6064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" descr="4.jpg"/>
          <p:cNvPicPr/>
          <p:nvPr/>
        </p:nvPicPr>
        <p:blipFill>
          <a:blip r:embed="rId2"/>
          <a:stretch/>
        </p:blipFill>
        <p:spPr>
          <a:xfrm>
            <a:off x="1071720" y="857160"/>
            <a:ext cx="2857320" cy="21639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7.jpg"/>
          <p:cNvPicPr/>
          <p:nvPr/>
        </p:nvPicPr>
        <p:blipFill>
          <a:blip r:embed="rId3"/>
          <a:stretch/>
        </p:blipFill>
        <p:spPr>
          <a:xfrm>
            <a:off x="2928960" y="2071800"/>
            <a:ext cx="3056040" cy="22143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4" descr="3.jpg"/>
          <p:cNvPicPr/>
          <p:nvPr/>
        </p:nvPicPr>
        <p:blipFill>
          <a:blip r:embed="rId4"/>
          <a:stretch/>
        </p:blipFill>
        <p:spPr>
          <a:xfrm>
            <a:off x="4857840" y="3132000"/>
            <a:ext cx="3429000" cy="26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3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3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lebedev-k.jpg"/>
          <p:cNvPicPr/>
          <p:nvPr/>
        </p:nvPicPr>
        <p:blipFill>
          <a:blip r:embed="rId1"/>
          <a:stretch/>
        </p:blipFill>
        <p:spPr>
          <a:xfrm>
            <a:off x="1214280" y="714240"/>
            <a:ext cx="2000520" cy="20494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71600" y="456840"/>
            <a:ext cx="469116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ac9"/>
                </a:solidFill>
                <a:latin typeface="Constantia"/>
              </a:rPr>
              <a:t>Василий Иванович Лебедев-Кумач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456840"/>
            <a:ext cx="3471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71600" y="1600200"/>
            <a:ext cx="4694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Автор слов песни «Только на фронте (После боя)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Родился в 1898 году в семье сапожника. Широко известен как автор многочисленных  массовых советских песен, в том числе и песен для кинофильмов. Во время Великой Отечественной войны  служил на флоте, был политработником, капитаном первого ранга. Лебедев-Кумач пришел с фронта, награжденный тремя орденами и несколькими медалями. Он умер 20 февраля 1949, но его поэзия любима до сих пор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3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4" descr="lepin1_medium.png"/>
          <p:cNvPicPr/>
          <p:nvPr/>
        </p:nvPicPr>
        <p:blipFill>
          <a:blip r:embed="rId1"/>
          <a:stretch/>
        </p:blipFill>
        <p:spPr>
          <a:xfrm>
            <a:off x="857160" y="714240"/>
            <a:ext cx="2452680" cy="3249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00720" y="1600200"/>
            <a:ext cx="4265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efac9"/>
                </a:solidFill>
                <a:latin typeface="Constantia"/>
              </a:rPr>
              <a:t>Композитор, автор музыки песни «Только на фронте (После боя)»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efac9"/>
                </a:solidFill>
                <a:latin typeface="Constantia"/>
              </a:rPr>
              <a:t>Родился в 1907 году в семье латвийского крестьянина, перебравшегося в Москву. Написал более 500 песен, в том числе и к кинофильмам. Во время войны служил на Северном флоте, где и встретился с Лебедевым-Кумачем в 1943 году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efac9"/>
                </a:solidFill>
                <a:latin typeface="Constantia"/>
              </a:rPr>
              <a:t>Встреча привела к появлению двух известных военных песен: «Два друга» и «Только на фронте»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efac9"/>
                </a:solidFill>
                <a:latin typeface="Constantia"/>
              </a:rPr>
              <a:t>Скончался Анатолий Яковлевич в 1984 году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00720" y="456840"/>
            <a:ext cx="4262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fac9"/>
                </a:solidFill>
                <a:latin typeface="Constantia"/>
              </a:rPr>
              <a:t>Лепин (Лиепиньш) Анатолий Яковлевич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51:20Z</dcterms:created>
  <dc:creator>user</dc:creator>
  <dc:description/>
  <dc:language>en-US</dc:language>
  <cp:lastModifiedBy>user</cp:lastModifiedBy>
  <dcterms:modified xsi:type="dcterms:W3CDTF">2011-05-05T09:56:58Z</dcterms:modified>
  <cp:revision>37</cp:revision>
  <dc:subject/>
  <dc:title>Слайд 1</dc:title>
</cp:coreProperties>
</file>