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1DA-3C17-4341-B313-FA1ABD3E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026-4153-4375-A753-0A69F4A9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CE7E-274B-4AB6-970A-4AAFC226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373-5237-425B-A124-9A959E87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D31-3C31-480F-9A14-2BFFEC0C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9FA-2672-4C6E-94C8-1B41C841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6CF1-DBB6-4415-9DFF-017135A9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3901-F657-4D22-B1F7-0D958E04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F78-8592-4C22-A3EB-7351B2B8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928-DAFD-447A-91E9-B722B281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24B-124F-4EDC-8B4F-2849C6EC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C81-1DDD-430F-AF37-F4BB37DC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BAF7-C5E1-47E8-8E0E-44612FCB1F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Пользователь\Рабочий стол\post-1815904-1297280615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785840" y="4500720"/>
            <a:ext cx="3272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Подготови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Ворсин Кирил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11 л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28400" y="571680"/>
            <a:ext cx="6500520" cy="31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ru-RU" sz="6500" spc="-1" strike="noStrike">
                <a:solidFill>
                  <a:srgbClr val="000000"/>
                </a:solidFill>
                <a:latin typeface="Monotype Corsiva"/>
              </a:rPr>
              <a:t>Н а г р а д а </a:t>
            </a:r>
            <a:br>
              <a:rPr sz="6500"/>
            </a:br>
            <a:r>
              <a:rPr b="0" lang="ru-RU" sz="6500" spc="-1" strike="noStrike">
                <a:solidFill>
                  <a:srgbClr val="000000"/>
                </a:solidFill>
                <a:latin typeface="Monotype Corsiva"/>
              </a:rPr>
              <a:t>         м о е г о </a:t>
            </a:r>
            <a:br>
              <a:rPr sz="6500"/>
            </a:br>
            <a:r>
              <a:rPr b="0" lang="ru-RU" sz="6500" spc="-1" strike="noStrike">
                <a:solidFill>
                  <a:srgbClr val="000000"/>
                </a:solidFill>
                <a:latin typeface="Monotype Corsiva"/>
              </a:rPr>
              <a:t>              д е д у ш к и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esni-i-muzyka-voennyh-let-na-sopkah-man-chzhurii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Пользователь\Рабочий стол\post-1815904-1297280615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14440" y="642600"/>
            <a:ext cx="414324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цов Владимир Ильич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10.1950 г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C:\Users\Администратор\Desktop\Сканировать10002.png"/>
          <p:cNvPicPr/>
          <p:nvPr/>
        </p:nvPicPr>
        <p:blipFill>
          <a:blip r:embed="rId2"/>
          <a:stretch/>
        </p:blipFill>
        <p:spPr>
          <a:xfrm>
            <a:off x="642960" y="500040"/>
            <a:ext cx="2143080" cy="2960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Пользователь\Рабочий стол\post-1815904-1297280615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43200" y="857160"/>
            <a:ext cx="43862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Слав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28480" y="3357360"/>
            <a:ext cx="6715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Орденом награждаются рабочие и мастера промышленности, транспорта, строительства и других отраслей материального производства, колхозники и работники сельского хозяйства, а также работники непроизводственной сферы за самоотверженный и высокопроизводительный долголетний труд на одном предприятии, в учреждении, организации, колхозе или совхоз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C:\Users\Администратор\Desktop\Сканировать10003.png"/>
          <p:cNvPicPr/>
          <p:nvPr/>
        </p:nvPicPr>
        <p:blipFill>
          <a:blip r:embed="rId2"/>
          <a:stretch/>
        </p:blipFill>
        <p:spPr>
          <a:xfrm>
            <a:off x="214200" y="285840"/>
            <a:ext cx="3522600" cy="29890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Пользователь\Рабочий стол\post-1815904-1297280615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680" y="571680"/>
            <a:ext cx="72864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й дедушка Семенцов Владимир Ильич  награжден орденом трудовой славы 30 марта 1978г. з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ысокие производственные показатели, систематическое перевыполнение норм выработки и план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остижение высокой производительности труда, изготовление продукции высокого качества, экономию материалов и сокращение трудовых затра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оваторство в труде, ценные изобретения и рационализаторские предложения, активное участие в освоении и использовании новой техники и прогрессивной технолог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остижение высокой урожайности сельскохозяйственных культур и продуктивности животновод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граждение за перечисленные трудовые заслуги производится при условии долголетней работы на одном предприятии, в учреждении, организации, колхозе или совхозе, в одном учебно-воспитательном учрежд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1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Пользователь\Рабочий стол\post-1815904-1297280615.jpg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64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48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Спасибо 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Monotype Corsiva"/>
              </a:rPr>
              <a:t>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4T06:31:02Z</dcterms:created>
  <dc:creator>Пользователь</dc:creator>
  <dc:description/>
  <dc:language>en-US</dc:language>
  <cp:lastModifiedBy>Admin</cp:lastModifiedBy>
  <dcterms:modified xsi:type="dcterms:W3CDTF">2019-01-24T03:02:40Z</dcterms:modified>
  <cp:revision>12</cp:revision>
  <dc:subject/>
  <dc:title>тема</dc:title>
</cp:coreProperties>
</file>